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EB9-DA7B-440F-96CD-F77228F4A7B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C302-1D48-4D42-84EB-ABD8B4EE24C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EE97-A111-4830-BF76-26C4E4CE19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AF1-3EDC-4E50-B734-7C765559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054-40C6-403E-822D-650F1A8E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DD8-3731-4850-801F-D20A328C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288-191A-42ED-B02A-1B952DA1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4A20-E6A6-4732-A5A5-2F883108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BBB2-40A9-4A51-899A-71543CC1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6E64-C312-47DE-B365-164BD8E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3C5-D2BE-45CE-ADFA-24B3E4E8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8D97-95EC-4F14-B58E-FC5125D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AAA-50B5-4D96-B4AA-9346ABB7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9B8-336D-49B7-A1D9-0DA19A23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894-4536-4683-A793-BD302D9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4F22-A4F6-4107-A4DE-98A4ADB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DEE-FC34-44F0-BA53-422C5E2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51D-2256-4FF9-A580-BB296AF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CC8E-DBF6-4B11-8458-F608D336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1F85-3FBE-433F-B755-2C8D3E81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9CE-AD16-4A32-BBFD-32B29BBC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CFE-8528-409F-B55D-7982D4D8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D9F-D148-4F79-8F78-91A02DF2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001-0B3E-48EE-A1ED-9D94AFB8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DC0-5370-4CC0-B9CE-9D0CA41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9DA-0312-4248-8AC9-B2C3D16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056-5DFC-40EA-9B80-D25FF5F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D3A1-D594-4444-BD28-22147996A64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0154-197D-4DA0-9C2A-9DE7E13A849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me.eu/cz/katalog/fotorezistory_100141/#id_category%3D100141%2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1700280"/>
          <a:ext cx="6837120" cy="14317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8_SADA5_VYC_9ROC_VEDENI_PROUDU_V_POLOVODIC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12" name="Obrázek 10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1596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ástupný symbol pro zápatí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POLOVODIČ TYPU </a:t>
            </a:r>
            <a:r>
              <a:rPr b="1" lang="cs-CZ" sz="4200" spc="-1" strike="noStrike">
                <a:solidFill>
                  <a:srgbClr val="330033"/>
                </a:solidFill>
                <a:latin typeface="Times New Roman"/>
              </a:rPr>
              <a:t>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dáním prvků z III.A skupiny do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nikají tzv. díry, ty nesou kladný náboj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dení el. proudu způsobeno dírami (klad.částice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059280" y="2852640"/>
          <a:ext cx="352872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852640"/>
                    <a:ext cx="35287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Otázky a úloh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ři osvětlení polovodičů se jejich odpor zvětší nebo zmenš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ak se mění odpor kovu při jeho zahří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kresli schematickou značku term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čem závisí el.vlastnosti polovodič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o je to fotore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terými částicemi je způsobeno vedení el.proudu v polovodiči typu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piš polovodič typu P a vysvětli, jak probíhá vedení el.proudu v tomto polovodič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Zástupný symbol pro zápatí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820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Zjisti z následujícího grafu odpor termistoru při teplotách 100°C,150°C, 200°C a 250°C.   Z určeného odporu vypočítej proud procházející termistorem při těchto teplotách, jeli připojen ke zdroji napětí 3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ukol5"/>
          <p:cNvPicPr/>
          <p:nvPr/>
        </p:nvPicPr>
        <p:blipFill>
          <a:blip r:embed="rId1"/>
          <a:stretch/>
        </p:blipFill>
        <p:spPr>
          <a:xfrm>
            <a:off x="2050920" y="2430360"/>
            <a:ext cx="60818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droj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ctroniccomponents. 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tme.eu/cz/katalog/fotorezistory_100141/#id_category%3D100141%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edení el.proudu v polovodičích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3.2. 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vedení el.proudu v polovodičích s otázkami a úloh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kdy žáci po výkladu a pochopení látky odpovídají na zadané otázky a řeší úlo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0033"/>
                </a:solidFill>
                <a:latin typeface="Times New Roman"/>
              </a:rPr>
              <a:t>VEDENÍ EL.PROUDU V POLOVODIČÍC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 u polovodič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polovodič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ODPOR U POLOVODIČ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ž víme: kov (vodič) při zahřívání svůj odpor zvětš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f závislosti odporu kovu na teplotě (lin.náru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1258920" y="2492280"/>
          <a:ext cx="720072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92280"/>
                    <a:ext cx="720072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ODPOR U POLOVODIČ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VODIČE = látky, u kterých se zvyšováním teploty odpor výrazně zmenšuje (tedy přesně naopak, než u kovů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f závislosti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lovodiče n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yperbolický prů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2627280" y="2852640"/>
          <a:ext cx="381636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852640"/>
                    <a:ext cx="381636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zápatí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Polovodičové součás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rmis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yužívá změn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 změno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yužití: měření teplo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268360" y="3141360"/>
            <a:ext cx="38102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ematická značka termisto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15"/>
          <p:cNvGraphicFramePr/>
          <p:nvPr/>
        </p:nvGraphicFramePr>
        <p:xfrm>
          <a:off x="3419640" y="4149720"/>
          <a:ext cx="21603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149720"/>
                    <a:ext cx="21603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zápatí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Polovodičové součás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torezist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využívá změnu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změnou osvětl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yužití: ve fotoaparátech, automatické počít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6360" y="3428640"/>
            <a:ext cx="38102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ematická značka fotorezisto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671640" cy="30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5"/>
          <p:cNvGraphicFramePr/>
          <p:nvPr/>
        </p:nvGraphicFramePr>
        <p:xfrm>
          <a:off x="6156360" y="4437000"/>
          <a:ext cx="2016000" cy="13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4437000"/>
                    <a:ext cx="20160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Obdélník 7"/>
          <p:cNvSpPr/>
          <p:nvPr/>
        </p:nvSpPr>
        <p:spPr>
          <a:xfrm>
            <a:off x="1835280" y="6093000"/>
            <a:ext cx="936360" cy="288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e1"/>
                </a:solidFill>
                <a:latin typeface="Arial"/>
              </a:rPr>
              <a:t>Ob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zápatí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TYPY POLOVODIČ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polovodivého materiálu: Si, 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.vlastnosti polovodičů závisí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eplotě (viz Termis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osvětlení (viz Fotorezis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istotě lát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dáním některých prvků do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niknou 2 druhy polovodičů: polovodič typu N a polovodič typu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zápatí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POLOVODIČ TYPU </a:t>
            </a:r>
            <a:r>
              <a:rPr b="1" lang="cs-CZ" sz="4200" spc="-1" strike="noStrike">
                <a:solidFill>
                  <a:srgbClr val="330033"/>
                </a:solidFill>
                <a:latin typeface="Times New Roman"/>
              </a:rPr>
              <a:t>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dáním prvků z V.A skupiny do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nikají volné elektrony, které se mohou volně pohybovat a způsobují tak el.prou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dení el.proudu způsobeno volnými elektrony (záp.částice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2556000" y="3429000"/>
          <a:ext cx="424800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429000"/>
                    <a:ext cx="424800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5:03Z</dcterms:modified>
  <cp:revision>23</cp:revision>
  <dc:subject/>
  <dc:title>PowerPoint Presentation</dc:title>
</cp:coreProperties>
</file>