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7F47-603D-4BEF-BEA0-520071C642E5}" type="datetime">
              <a:rPr b="0" lang="cs-CZ" sz="1300" spc="-1" strike="noStrike">
                <a:solidFill>
                  <a:srgbClr val="000000"/>
                </a:solidFill>
                <a:latin typeface="Century Gothic"/>
              </a:rPr>
              <a:t>30.07.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53D6-036A-418E-B224-61CCAB27A42D}" type="slidenum">
              <a:rPr b="0" lang="cs-CZ" sz="13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ffffff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FA8-ACFB-4616-BBE7-382EFEC3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C81-612A-474D-AC0C-27498D5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678-900B-4F0D-B2D4-F0356479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C7D-B971-4F31-8460-8CD8C9F8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CF40-6058-47E0-80F3-28571E7E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E66-708D-444C-A362-05E6915A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02F9-25EA-4E1B-9BF0-30EDF870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FEA9-994A-468E-8620-08C07862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14D-5486-4EC5-B1E4-9C146EDE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1490-FA68-4564-B88B-340C9F31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E3A8-3501-4D37-A1EB-88DD1FE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345-EBD7-4D82-A423-FBA8BE5C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76DE-C75F-4E8A-8B04-AFBD92CD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963B-A64A-4C03-9090-F7AEB5A7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83E4-3456-44BD-ABFB-EA5E2614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62A8-0605-4440-9F76-5F011ADE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9540-2D8F-42BF-A314-BF157F6B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7471-B216-4E0A-9EE7-A7C299A3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5C14-0E60-4DFF-8377-2AF853E8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F4ED-73E8-4D35-9CFE-1E91B0BC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321A5-7420-4E86-AF0D-8A137CAA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58A6-8DE6-4478-8109-6CDC4BA9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D0A-6C0A-4EA3-B19C-CC53688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132D-CD0F-4108-9FE7-4409306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BF8E-7EF5-420C-87EC-6300944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B527-2122-4572-8FE7-73F01AD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160F3-F408-42D6-8849-630AF625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6E65-B169-40AB-A4B7-9152993C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734D-C676-47D3-BDCD-0E383427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1B81-CF81-48FB-A841-686EB76C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8524-ECF6-46E7-A62F-186B9BBD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AA9F-5920-41B2-8BDE-E3A390A7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4D17-B5BE-4D6D-B71E-2B02A1E0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912-5C3C-4898-AB0D-33E7B6F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F9F4-56FA-409C-AAE9-2A2FF64A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AED0-DDA4-42A9-8FD2-8D5BC7AA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BF0A6-2A59-47C1-89C8-9FAC7540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F12E-013B-4C10-8D3E-59EB9FC9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3501-EBFD-4049-921A-64DBA7F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4C0E-2683-4409-9F98-DA003D00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5EAB-A26A-4861-8855-A3205B56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2056-9F7A-49E9-992F-382B4F3A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A3B4-0241-492D-88E5-8D39BC02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734B-27B7-4F11-A03F-9EF0017A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CDC-74B2-40D0-AF27-B24D0529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45CB-B648-4049-9D36-EE12141A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FBFD-DBA1-4C52-A9D6-198E48E1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FE02-4000-485E-B07E-B52FBDD1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A544-24CD-4931-9BB8-9A174262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2462-D6A0-4A22-A503-092CEB0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BF25-95FF-4397-85AA-E337672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38A55-3E5B-44FA-A75D-17FF1C6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2BE6-4808-4194-BB0B-2DE087E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DD369-6FE8-4825-8982-9F6868CD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10B1-2D6E-4D22-8321-5211F403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161-D9CA-4638-8C75-A22760F1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4FD6C-9766-4632-AFC6-8430B216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523ED-016C-4B6A-92A8-D83C5917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7E86-467F-4AFC-AD9E-39C16D7B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2765A-AA0C-4156-BA38-152316BD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F204-9BE5-4629-85A6-44302008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B563-3003-4DE2-BD04-DB5C0BE0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3B12-61CC-4BD7-A94C-C9CF9225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695F-BC36-4930-8663-032A155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432B-D9C8-4016-B43E-3ED8E4E8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35A94-DF74-47E5-B715-D4519A3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80C-D86E-4BBE-82AA-CD5456F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3B91E-F664-4479-8A44-BBCC9A84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C6D24-FBC9-4F58-8C81-102B6D4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D216-7F7C-44D2-B1EF-88860734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E369-E00E-481E-A5DA-5A832F34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04B8C-E47D-4875-849B-2F1D08A1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21292-2F8E-4D7C-990B-1D720E1F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ACC59-078B-4BD1-A180-A9A97FB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D1D6-5AF5-4A98-B4B4-BF19BC90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1E650-7022-443D-9408-3348B086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ABF1-2DA7-494B-8BBE-E72EBCB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603-861A-48A9-BCC1-0CE4C89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A4895-25E5-42F0-86FB-A7EAB45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B40F-928D-44FD-9047-D4376DB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9E73-4930-4861-A816-7F80FA3D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00F1-C778-4106-A59C-B93EEB2B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AB6C3-6F9A-4173-9FDE-4EA6CB91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237-B875-45D9-9EFF-82E0164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římá spojovací čár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římá spojovací čár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5CB3-B175-4825-88A2-210CC921AA1D}" type="datetime">
              <a:rPr b="0" lang="cs-CZ" sz="1000" spc="-1" strike="noStrike">
                <a:solidFill>
                  <a:srgbClr val="000000"/>
                </a:solidFill>
                <a:latin typeface="Century Gothic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E47F-E0D2-4038-B1A8-BF091238A085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římá spojovací čár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římá spojovací čár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8EA8-5980-4CEE-BAC9-B05BBA698A5D}" type="datetime">
              <a:rPr b="0" lang="cs-CZ" sz="1000" spc="-1" strike="noStrike">
                <a:solidFill>
                  <a:srgbClr val="000000"/>
                </a:solidFill>
                <a:latin typeface="Century Gothic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07E6-B1E3-4607-97A3-2118BED27861}" type="slidenum">
              <a:rPr b="0" lang="cs-CZ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římá spojovací čár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římá spojovací čár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97AB-753C-4841-8022-E49B079176CE}" type="datetime">
              <a:rPr b="0" lang="cs-CZ" sz="1000" spc="-1" strike="noStrike">
                <a:solidFill>
                  <a:srgbClr val="000000"/>
                </a:solidFill>
                <a:latin typeface="Century Gothic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E3FA-E245-4517-A417-E10FF8AD5D30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římá spojovací čára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římá spojovací čára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0BE1-B9E3-4026-83B7-4BE223D8760D}" type="datetime"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92FE-2405-49B0-9FB8-B1B254670E8C}" type="slidenum"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669-E0B9-4B06-A4BB-19549C95325D}" type="datetime">
              <a:rPr b="0" lang="cs-CZ" sz="1000" spc="-1" strike="noStrike">
                <a:solidFill>
                  <a:srgbClr val="000000"/>
                </a:solidFill>
                <a:latin typeface="Century Gothic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C9C2-588C-4398-B87E-5C52C5EE05DC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4C4F-BB3B-4A24-A7A5-664538C7BBE3}" type="datetime">
              <a:rPr b="0" lang="cs-CZ" sz="900" spc="-1" strike="noStrike">
                <a:solidFill>
                  <a:srgbClr val="000000"/>
                </a:solidFill>
                <a:latin typeface="Century Gothic"/>
              </a:rPr>
              <a:t>30.07.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BF31-26A0-4655-AC12-391A84394885}" type="slidenum">
              <a:rPr b="0" lang="cs-CZ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5C7-CEC9-4EFF-B2FF-000F96318AF2}" type="datetime">
              <a:rPr b="0" lang="cs-CZ" sz="900" spc="-1" strike="noStrike">
                <a:solidFill>
                  <a:srgbClr val="ffffff"/>
                </a:solidFill>
                <a:latin typeface="Century Gothic"/>
              </a:rPr>
              <a:t>30.07.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32A6-9D1B-4A66-9B18-D6DD20111106}" type="slidenum">
              <a:rPr b="0" lang="cs-CZ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cs.wikipedia.org/wiki/Soubor:Radioactive.sv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oogle.cz/url?sa=i&amp;rct=j&amp;q=&amp;esrc=s&amp;frm=1&amp;source=images&amp;cd=&amp;cad=rja&amp;docid=UlAMTRe81OmcSM&amp;tbnid=iZnoHoagK8DN5M:&amp;ved=0CAUQjRw&amp;url=http%3A%2F%2Fwww.studiovera.eu%2Ffotogalerie_sol.htm&amp;ei=pAafUqGUOaSw0QXOrIGwBw&amp;bvm=bv.57155469,d.bGQ&amp;psig=AFQjCNE1LYk__MTc5YEsw8JxGpfpDbzPbw&amp;ust=1386239992396192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hyperlink" Target="http://www.google.cz/url?sa=i&amp;rct=j&amp;q=&amp;esrc=s&amp;frm=1&amp;source=images&amp;cd=&amp;cad=rja&amp;docid=Isro9nd3EWStLM&amp;tbnid=Y7gP-Vxoh8C26M:&amp;ved=0CAUQjRw&amp;url=http%3A%2F%2Fwww.lvdosvetleni.cz%2FO-svetle%2F&amp;ei=3gWfUqv3H5D30gWnpoGoBQ&amp;psig=AFQjCNEadffZ31ku6Ez4-_jWGALYJ5ndkQ&amp;ust=1386239773387954" TargetMode="External"/><Relationship Id="rId4" Type="http://schemas.openxmlformats.org/officeDocument/2006/relationships/hyperlink" Target="http://www.google.cz/url?sa=i&amp;rct=j&amp;q=&amp;esrc=s&amp;frm=1&amp;source=images&amp;cd=&amp;cad=rja&amp;docid=Isro9nd3EWStLM&amp;tbnid=Y7gP-Vxoh8C26M:&amp;ved=0CAUQjRw&amp;url=http%3A%2F%2Fwww.lvdosvetleni.cz%2FO-svetle%2F&amp;ei=3gWfUqv3H5D30gWnpoGoBQ&amp;psig=AFQjCNEadffZ31ku6Ez4-_jWGALYJ5ndkQ&amp;ust=1386239773387954" TargetMode="External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Spectre.svg" TargetMode="External"/><Relationship Id="rId2" Type="http://schemas.openxmlformats.org/officeDocument/2006/relationships/hyperlink" Target="http://cs.wikipedia.org/wiki/Soubor:Vlnova_delka.png" TargetMode="External"/><Relationship Id="rId3" Type="http://schemas.openxmlformats.org/officeDocument/2006/relationships/hyperlink" Target="http://cs.wikipedia.org/wiki/Soubor:Radioactive.svg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11280" y="1700280"/>
          <a:ext cx="6837120" cy="121896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10_SADA5_VYC_9ROC_ELEKTROMAGNETICKE_ZAR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316" name="Obrázek 10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61578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Nadpis 1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8240760" cy="1414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0" y="112500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áření o nejkratších vlnových délká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Vzniká při přeměně atomových ja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Přichází k nám z kosmu, lze ho vytvořit i v laboratoř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jpronikavější záření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Využití v lékařství (diagnostika, ozařování nádorů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gamakamera pro lékařskou diagnostik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4932360" y="4294080"/>
            <a:ext cx="3772080" cy="2563920"/>
          </a:xfrm>
          <a:prstGeom prst="rect">
            <a:avLst/>
          </a:prstGeom>
          <a:ln w="0">
            <a:noFill/>
          </a:ln>
        </p:spPr>
      </p:pic>
      <p:sp>
        <p:nvSpPr>
          <p:cNvPr id="348" name="Obdélník 6"/>
          <p:cNvSpPr/>
          <p:nvPr/>
        </p:nvSpPr>
        <p:spPr>
          <a:xfrm>
            <a:off x="7885080" y="692280"/>
            <a:ext cx="898560" cy="288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bdélník 7"/>
          <p:cNvSpPr/>
          <p:nvPr/>
        </p:nvSpPr>
        <p:spPr>
          <a:xfrm>
            <a:off x="3924360" y="5157720"/>
            <a:ext cx="898560" cy="287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0" descr="http://upload.wikimedia.org/wikipedia/commons/thumb/b/b5/Radioactive.svg/250px-Radioactiv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240" y="142920"/>
            <a:ext cx="1386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Užití v lékařství (forografování vnitřních tkání, orgánů a cizích předmětů uvnitř těl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historický rtg.snímek ruky pořízený W.Röntgenem (1896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1511280" cy="2174760"/>
          </a:xfrm>
          <a:prstGeom prst="rect">
            <a:avLst/>
          </a:prstGeom>
          <a:ln w="0">
            <a:noFill/>
          </a:ln>
        </p:spPr>
      </p:pic>
      <p:sp>
        <p:nvSpPr>
          <p:cNvPr id="356" name="Obdélník 6"/>
          <p:cNvSpPr/>
          <p:nvPr/>
        </p:nvSpPr>
        <p:spPr>
          <a:xfrm>
            <a:off x="7236000" y="5300640"/>
            <a:ext cx="900000" cy="2890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bdélník 7"/>
          <p:cNvSpPr/>
          <p:nvPr/>
        </p:nvSpPr>
        <p:spPr>
          <a:xfrm>
            <a:off x="7812000" y="1125360"/>
            <a:ext cx="900360" cy="2876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Toto záření způsobuje opálení (ale může také vyvolat rakovinu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Nejvyšší intenzita na horách a u moře (nutná ochrana UV krémem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Obdélník 5"/>
          <p:cNvSpPr/>
          <p:nvPr/>
        </p:nvSpPr>
        <p:spPr>
          <a:xfrm>
            <a:off x="3780000" y="5229360"/>
            <a:ext cx="900000" cy="287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7" descr="https://encrypted-tbn0.gstatic.com/images?q=tbn:ANd9GcR1mqmmkYlk0C3BdXJO7bvYYCwjXYAZTDRSY6to0uiAYqaA8K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076640"/>
            <a:ext cx="3078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24000" y="141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Lidské oko vnímá jen el.-mg.vlny vlnových délek 750nm – 400 n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4197240" cy="3789360"/>
          </a:xfrm>
          <a:prstGeom prst="rect">
            <a:avLst/>
          </a:prstGeom>
          <a:ln w="0">
            <a:noFill/>
          </a:ln>
        </p:spPr>
      </p:pic>
      <p:sp>
        <p:nvSpPr>
          <p:cNvPr id="367" name="Obdélník 6"/>
          <p:cNvSpPr/>
          <p:nvPr/>
        </p:nvSpPr>
        <p:spPr>
          <a:xfrm>
            <a:off x="7956720" y="2997360"/>
            <a:ext cx="900000" cy="287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bdélník 7"/>
          <p:cNvSpPr/>
          <p:nvPr/>
        </p:nvSpPr>
        <p:spPr>
          <a:xfrm>
            <a:off x="4356000" y="5877000"/>
            <a:ext cx="900360" cy="288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8">
            <a:hlinkClick r:id="rId3"/>
          </p:cNvPr>
          <p:cNvSpPr/>
          <p:nvPr/>
        </p:nvSpPr>
        <p:spPr>
          <a:xfrm>
            <a:off x="0" y="-1189080"/>
            <a:ext cx="46195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0">
            <a:hlinkClick r:id="rId4"/>
          </p:cNvPr>
          <p:cNvSpPr/>
          <p:nvPr/>
        </p:nvSpPr>
        <p:spPr>
          <a:xfrm>
            <a:off x="0" y="-1189080"/>
            <a:ext cx="46195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Obrázek 10" descr="a.png"/>
          <p:cNvPicPr/>
          <p:nvPr/>
        </p:nvPicPr>
        <p:blipFill>
          <a:blip r:embed="rId5"/>
          <a:stretch/>
        </p:blipFill>
        <p:spPr>
          <a:xfrm>
            <a:off x="5148360" y="3429000"/>
            <a:ext cx="32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Nadpis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985240" cy="1407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…………………………………………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469800" y="-244440"/>
            <a:ext cx="8240760" cy="14144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95280" y="90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Často považováno za tepelné zářen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infra záření zapříčiňuje pouze přibližně 50 % zahřívání zemského povrchu, zbytek je způsoben viditelným světl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Dálkové ovladače, noční viděn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1908000" y="3645000"/>
            <a:ext cx="4824720" cy="2458800"/>
          </a:xfrm>
          <a:prstGeom prst="rect">
            <a:avLst/>
          </a:prstGeom>
          <a:ln w="0">
            <a:noFill/>
          </a:ln>
        </p:spPr>
      </p:pic>
      <p:sp>
        <p:nvSpPr>
          <p:cNvPr id="379" name="Obdélník 6"/>
          <p:cNvSpPr/>
          <p:nvPr/>
        </p:nvSpPr>
        <p:spPr>
          <a:xfrm>
            <a:off x="6948360" y="4797360"/>
            <a:ext cx="1079640" cy="503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Odrážejí se od kovových předmětů → využití při sledování pohybu letadel a lodí za tm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Výzkum mikrovln: rozkvět za 2.sv.v.- radar (vyhledávání a zaměřování objektu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Mobilní telefon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GPS – určení polohy s přesností na několik metrů (díky síti družic na oběžné dráze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Rozdělení: dlouhé, střední, krátké, velmi krátké (2000m – 1m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Použití: přenos informace, zpráv, hudby, přenos obrazu při TV vysílán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Přenos vln viz animac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..\radio-waves_sk.j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1404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5c9c"/>
                </a:solidFill>
                <a:latin typeface="Arial"/>
              </a:rPr>
              <a:t>Otázky a úlohy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V jakém prostředí a jakou rychlostí se šíří el.-mg.vln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K čemu se používají mikrovln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Proč není zdravé nadměrně se opalovat a často rentgenovat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Co je úspornější? Žárovka nebo LED dioda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Jaké vlnové délky charakterizují viditelnou část spektra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Jakou vlnovou délku má el.-mg.vlna, která má kmitočet 4 MHz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Vyjmenuj alespoň pět zdrojů světl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Převeď jednotky délky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6 pm = …….. 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45 km = ……. n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0,6 nm = …… p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20 pm = …… m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0,009 mm = ……. nm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Elektromagnetické záření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19.3. 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elektromagnetické záření s otázk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 k prezentaci nové látky včetně procvičování, kdy žáci po výkladu a pochopení látky odpovídají na zadané otázky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5c9c"/>
                </a:solidFill>
                <a:latin typeface="Arial"/>
              </a:rPr>
              <a:t>Zdroj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79280" y="1882800"/>
            <a:ext cx="8785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 1: </a:t>
            </a:r>
            <a:r>
              <a:rPr b="0" lang="cs-CZ" sz="14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http://cs.wikipedia.org/wiki/Soubor:Spectre.svg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2: </a:t>
            </a:r>
            <a:r>
              <a:rPr b="0" lang="cs-CZ" sz="1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cs.wikipedia.org/wiki/Soubor:Vlnova_delka.png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3: </a:t>
            </a:r>
            <a:r>
              <a:rPr b="0" lang="cs-CZ" sz="1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cs.wikipedia.org/wiki/Soubor:Radioactive.svg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4: http://cs.wikipedia.org/wiki/Záření_gama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5: http://www.cez.cz/edee/content/microsites/rtg/k31.ht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6: http://fyzmatik.pise.cz/800-rntgenovo-zareni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7: http://www.studiovera.eu/fotogalerie_sol.ht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8: http://www.fotografovani.cz/fotopraxe/zakladni-postupy1/vse-o-svetle-1-co-je-to-svetlo-152057cz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9: http://www.lvdosvetleni.cz/O-svetle/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Gothic"/>
              </a:rPr>
              <a:t>Obr.10: http://cs.wikipedia.org/wiki/Infračervené_záření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Zástupný symbol pro zápatí 1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Nadpis 1" descr=""/>
          <p:cNvPicPr/>
          <p:nvPr/>
        </p:nvPicPr>
        <p:blipFill>
          <a:blip r:embed="rId1"/>
          <a:stretch/>
        </p:blipFill>
        <p:spPr>
          <a:xfrm>
            <a:off x="244440" y="1432080"/>
            <a:ext cx="8832960" cy="1603080"/>
          </a:xfrm>
          <a:prstGeom prst="rect">
            <a:avLst/>
          </a:prstGeom>
          <a:ln w="0">
            <a:noFill/>
          </a:ln>
        </p:spPr>
      </p:pic>
      <p:pic>
        <p:nvPicPr>
          <p:cNvPr id="321" name="Podnadpis 2" descr=""/>
          <p:cNvPicPr/>
          <p:nvPr/>
        </p:nvPicPr>
        <p:blipFill>
          <a:blip r:embed="rId2"/>
          <a:stretch/>
        </p:blipFill>
        <p:spPr>
          <a:xfrm>
            <a:off x="676440" y="3492360"/>
            <a:ext cx="8175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8360" y="1628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Světlo je elektromagnetické vlnění vnímatelné lidským okem. Jeho vlnové délky leží v intervalu 390 nm – 790 nm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J.C.Maxwell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- světlo je el.-mg.vln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- předpověděl i jiné neviditelné el.-mg.vln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Nadpis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4079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7489800" cy="5275440"/>
          </a:xfrm>
          <a:prstGeom prst="rect">
            <a:avLst/>
          </a:prstGeom>
          <a:ln w="0">
            <a:noFill/>
          </a:ln>
        </p:spPr>
      </p:pic>
      <p:sp>
        <p:nvSpPr>
          <p:cNvPr id="328" name="Obdélník 4"/>
          <p:cNvSpPr/>
          <p:nvPr/>
        </p:nvSpPr>
        <p:spPr>
          <a:xfrm>
            <a:off x="8244000" y="4869000"/>
            <a:ext cx="900000" cy="288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DRUH ZÁŘENÍ                        POUŽIT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2bd8"/>
                </a:solidFill>
                <a:latin typeface="Century Gothic"/>
              </a:rPr>
              <a:t>Gama záření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– kosmic. záření, ozařování nádor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2bd8"/>
                </a:solidFill>
                <a:latin typeface="Century Gothic"/>
              </a:rPr>
              <a:t>RTG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            – lékařská a průmyslová diagnostik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2bd8"/>
                </a:solidFill>
                <a:latin typeface="Century Gothic"/>
              </a:rPr>
              <a:t>UV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              – solária, opalování, steriliza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2bd8"/>
                </a:solidFill>
                <a:latin typeface="Century Gothic"/>
              </a:rPr>
              <a:t>Světlo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        - viděn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2bd8"/>
                </a:solidFill>
                <a:latin typeface="Century Gothic"/>
              </a:rPr>
              <a:t>Infra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              – dálk.ovladače, noční vidění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2bd8"/>
                </a:solidFill>
                <a:latin typeface="Century Gothic"/>
              </a:rPr>
              <a:t>Mikrovlny     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 – mob.telefony, GPS, mikrovl.troub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2bd8"/>
                </a:solidFill>
                <a:latin typeface="Century Gothic"/>
              </a:rPr>
              <a:t>Rádiové vlny </a:t>
            </a: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– rozhlas, televiz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1 mm = …….. 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(milimet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1 nm  = ……. m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(nanomet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1 pm = …….. 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(pikomet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El.-mg.vlnu znázorňujeme sinusoidou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El.-mg.vlnu charakterizuje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2bd8"/>
                </a:solidFill>
                <a:latin typeface="Century Gothic"/>
              </a:rPr>
              <a:t>vlnová délka </a:t>
            </a:r>
            <a:r>
              <a:rPr b="0" lang="el-GR" sz="3000" spc="-1" strike="noStrike">
                <a:solidFill>
                  <a:srgbClr val="ff2bd8"/>
                </a:solidFill>
                <a:latin typeface="Century Gothic"/>
              </a:rPr>
              <a:t>λ</a:t>
            </a:r>
            <a:r>
              <a:rPr b="0" lang="cs-CZ" sz="3000" spc="-1" strike="noStrike">
                <a:solidFill>
                  <a:srgbClr val="ff2bd8"/>
                </a:solidFill>
                <a:latin typeface="Century Gothic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(délka jedné periody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2bd8"/>
                </a:solidFill>
                <a:latin typeface="Century Gothic"/>
              </a:rPr>
              <a:t>frekvence  f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(počet period za sekundu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3216240" cy="2195640"/>
          </a:xfrm>
          <a:prstGeom prst="rect">
            <a:avLst/>
          </a:prstGeom>
          <a:ln w="0">
            <a:noFill/>
          </a:ln>
        </p:spPr>
      </p:pic>
      <p:sp>
        <p:nvSpPr>
          <p:cNvPr id="339" name="Obdélník 5"/>
          <p:cNvSpPr/>
          <p:nvPr/>
        </p:nvSpPr>
        <p:spPr>
          <a:xfrm>
            <a:off x="4214880" y="4643280"/>
            <a:ext cx="898560" cy="2876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br.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ástupný symbol pro zápatí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Century Gothic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El.-mg.vlna se šíří rychlostí světla </a:t>
            </a: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i="1" lang="cs-CZ" sz="30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= 300 000 km/s  ( 3.10</a:t>
            </a:r>
            <a:r>
              <a:rPr b="0" lang="cs-CZ" sz="3000" spc="-1" strike="noStrike" baseline="30000">
                <a:solidFill>
                  <a:srgbClr val="ffffff"/>
                </a:solidFill>
                <a:latin typeface="Century Gothic"/>
              </a:rPr>
              <a:t>8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 m/s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2411280" y="4076640"/>
                <a:ext cx="2592360" cy="32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eqAr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5:45Z</dcterms:modified>
  <cp:revision>46</cp:revision>
  <dc:subject/>
  <dc:title>ELEKTROMAGNETICKÉ ZÁŘENÍ</dc:title>
</cp:coreProperties>
</file>