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23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2. 5.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                    Inovace ve vzdělávání na naší škole ZŠ Studá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C7EB3-D072-4C05-94B9-6ABDE5BE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9B306-F8AF-4F4D-BF6A-576AE945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F0C20-A9CA-4F3D-A355-ED51C24D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4C04E-D564-4A2F-B856-F74D3E0B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60CC4-C2B6-4AAB-867B-D6BB8306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6E2E8-C44C-4E7B-9B13-6034C1B1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F9539-FBA7-4E4E-86F2-84264034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37E82-6B24-4FD5-B9C8-B255B58F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E415B-EDB4-4F16-82AF-269F0755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6CE59-2EDC-45CF-A69C-33CAF546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5E390-2937-4C8E-98E4-6EBD2248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0BC99-F475-4A63-8AE1-DD8F5D76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8B4F95-E67B-41CD-97F9-83F2A99F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EBFF77-F072-410B-AA2D-6B783E5D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AF86AD-7AAB-4C5B-AC47-C10840B5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AB9CE0-2869-4601-8406-B596EA94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9A4A18-A15B-40E5-9461-3B065D45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28091C-A98D-4CFE-A8F5-113497B6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79A135-6218-48F5-9E0E-750D8B1B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C98C85-10CE-4401-9E3D-7F2856AB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1AC149-1F45-495D-B21B-8D65DC8E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0D33BF-7131-44EE-B56D-73A27B87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BB200-16E5-40BE-98A3-8EA2D2A0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345CE8-A775-489E-996D-42C63980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7A3B-E70A-4051-89A0-7CB3F05B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286F1-CEA5-4EFE-91D0-ECEA4494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377E6-6AE7-4EA7-A543-A225C40B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C9BE-3E6A-411A-A5C1-172391E7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73223-8EB5-4074-A028-2A7BD6BA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504EF-60A3-4B93-8F43-D9E29629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720FD-F442-4761-A976-A318AA4F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A88EE-EDC4-43A1-9825-27297663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A8F70-C3F3-46EE-B089-0960613C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CFF3F-02AB-4C4F-81FC-E6CB3B91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7EC25-AE08-47AF-97B3-3C75651B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BE85-A094-49FB-9F39-4FC9C72C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A0E0F2-9DCF-48BA-A03E-0916C072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53C548-419D-4EF4-B9E1-E4B7C4D7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7E0D99-2725-429C-9F9E-B2A736F3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669769-B2EF-4B23-8578-2B1E8858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D4571D-4023-437A-99B1-99AE4004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B188AF-7818-4FEA-B1F5-0DA9E4A6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13ED32-56E2-4335-B940-AB41CEFB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AF1700-4398-4928-8C45-A217FD07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AAAD57-980F-4A19-AFEB-B542A0D6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B3635D-31CF-4551-ACEA-4FD62ABE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1DF416-59C6-44E1-BA5D-4D7C57DB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520802-8EED-4880-8FCB-9C56479D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0133B-B20C-4EE5-91B8-86346B2A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6C869-ACF3-4DE1-A821-84B1ACA4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1970B-AF5A-4B69-A423-EA55FFB0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71B88-BF22-45B5-94A5-5599D1A4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ED5C1-741A-42E2-B530-EE7F160C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F7578-C853-4E39-AC39-30BE7B16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47FBF-5A39-4B8B-9CFF-05E4483D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10C20-AF81-4B27-B82C-7A3A4A67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71761-A98E-4DE0-A364-91647D6F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B01ED-0B3B-4772-890E-A5FA00D1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4DF80-7611-49AA-97DC-786F3F5D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5BDAC-C172-49F9-A07E-C79CA0D9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F96B2-863C-4DC5-A21D-08358E5F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692FB-EFA1-41C7-8BB1-14961287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FAF88-7D8E-4A01-9427-DF5669C8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FA69B-BAF7-4F49-8351-BB8C2A0C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75496-D28B-42DD-A304-BF5583EA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C5399-F829-4710-A505-57B1AE29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BD066-0D90-44AC-B52D-94694AA2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4C8F7-1153-47A6-AF68-41B18EC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09600-C456-4524-AF2D-B690DB5F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50C3F-116A-4126-9147-F7949785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107B0-F07A-47EF-BC60-C503D7C1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FE833-9CB2-4DCC-A96A-A9349F71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EF22-8BEC-46BF-A686-4C61190B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A211D-B7A4-4950-8869-759FB5A1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0BCA5-FB9A-4684-BDB3-EEC81A7B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1E1C6-4C85-4D4F-A0C9-83F1086C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32F12-8B96-4A86-9348-F30A639B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B79BA-8825-4EFF-AB8F-B8595C3B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2BA55-059C-4AF5-8F39-67C308C4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3900B-05D5-4CBF-8DE0-7BBF7486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95313-A4D0-4C51-8BB2-EFB101E0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34A4F-C246-4205-A2C8-F67965A1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28F48-4EB2-44C9-B4C3-751C7EDD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4453D-999A-411F-9421-E01E98F4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23700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3A5A-67ED-4B89-96EE-EC7429B88F6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6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7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5B2E-B396-4C69-9303-3AAB87FA261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697E-352C-4576-B79D-17E0EAACD3D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3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B423-81EA-4002-8C94-779BF1FD44A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EAD3-F658-416E-B6CE-57152B20276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CAA9-605C-436D-8C90-8BCDB355715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1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2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6B04-DBB7-4C42-85C0-91755B7AAA7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2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s.wikipedia.org/wiki/upload.wikimedia.org/wikipedia/commons/3/3d/PA_lebka.jpg" TargetMode="External"/><Relationship Id="rId2" Type="http://schemas.openxmlformats.org/officeDocument/2006/relationships/hyperlink" Target="http://cs.wikipedia.org/wiki/upload.wikimedia.org/wikipedia/commons/3/3d/PA_lebka.jp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Zástupný symbol pro zápatí 3"/>
          <p:cNvSpPr/>
          <p:nvPr/>
        </p:nvSpPr>
        <p:spPr>
          <a:xfrm>
            <a:off x="468360" y="623736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0" y="66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8"/>
          <p:cNvSpPr/>
          <p:nvPr/>
        </p:nvSpPr>
        <p:spPr>
          <a:xfrm>
            <a:off x="468360" y="30114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9"/>
          <p:cNvSpPr/>
          <p:nvPr/>
        </p:nvSpPr>
        <p:spPr>
          <a:xfrm>
            <a:off x="0" y="39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4"/>
          <p:cNvSpPr/>
          <p:nvPr/>
        </p:nvSpPr>
        <p:spPr>
          <a:xfrm>
            <a:off x="611280" y="112104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nto materiál byl vytvořen v rámci projektu  Operačního programu Vzdělávání pro konkurenceschop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11280" y="1700280"/>
          <a:ext cx="6837120" cy="1371600"/>
        </p:xfrm>
        <a:graphic>
          <a:graphicData uri="http://schemas.openxmlformats.org/drawingml/2006/table">
            <a:tbl>
              <a:tblPr/>
              <a:tblGrid>
                <a:gridCol w="2243160"/>
                <a:gridCol w="459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kt MŠMT Č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 PENÍZE ŠKOL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Z.1.07/1.4.00/21.28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projektu ško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še škola, ZŠ Pardubice, Benešovo náměstí 5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íčová aktivita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III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ovace a zkvalitnění výuky prostřednictvím I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Rectangle 116"/>
          <p:cNvSpPr/>
          <p:nvPr/>
        </p:nvSpPr>
        <p:spPr>
          <a:xfrm>
            <a:off x="395280" y="3114720"/>
            <a:ext cx="849780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Šablona č. III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dentifikátor: VY_32_INOVACE_13_SADA5_KBS_8ROC_SPOJOVANI_REZISTO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last: Člověk a přír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dělávací obor: Fyz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obrázek 1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403" name="Obrázek 10" descr=""/>
          <p:cNvPicPr/>
          <p:nvPr/>
        </p:nvPicPr>
        <p:blipFill>
          <a:blip r:embed="rId2"/>
          <a:stretch/>
        </p:blipFill>
        <p:spPr>
          <a:xfrm>
            <a:off x="1619280" y="4508640"/>
            <a:ext cx="615960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ÚLOHA Č. 2 - ŘEŠE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 = 6 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10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15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b) R =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c) I =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) 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-----------------------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5"/>
              <p:cNvSpPr txBox="1"/>
              <p:nvPr/>
            </p:nvSpPr>
            <p:spPr>
              <a:xfrm>
                <a:off x="4714920" y="1643040"/>
                <a:ext cx="14936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6"/>
              <p:cNvSpPr txBox="1"/>
              <p:nvPr/>
            </p:nvSpPr>
            <p:spPr>
              <a:xfrm>
                <a:off x="4714920" y="2143080"/>
                <a:ext cx="23335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7"/>
              <p:cNvSpPr txBox="1"/>
              <p:nvPr/>
            </p:nvSpPr>
            <p:spPr>
              <a:xfrm>
                <a:off x="4786200" y="2786040"/>
                <a:ext cx="8575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8"/>
              <p:cNvSpPr txBox="1"/>
              <p:nvPr/>
            </p:nvSpPr>
            <p:spPr>
              <a:xfrm>
                <a:off x="4786200" y="3643200"/>
                <a:ext cx="19749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9"/>
              <p:cNvSpPr txBox="1"/>
              <p:nvPr/>
            </p:nvSpPr>
            <p:spPr>
              <a:xfrm>
                <a:off x="4786200" y="4714920"/>
                <a:ext cx="13575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0"/>
              <p:cNvSpPr txBox="1"/>
              <p:nvPr/>
            </p:nvSpPr>
            <p:spPr>
              <a:xfrm>
                <a:off x="4786200" y="5286240"/>
                <a:ext cx="1730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11"/>
              <p:cNvSpPr txBox="1"/>
              <p:nvPr/>
            </p:nvSpPr>
            <p:spPr>
              <a:xfrm>
                <a:off x="4786200" y="5857920"/>
                <a:ext cx="1359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,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ÚLOHA Č.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 elektrickém obvodu jsou ke zdroji napětí 12 V připojeny paralelně dva rezistory o odporech 60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a 20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) Nakresli schéma zapojen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b) Urči proudy na jednotlivých rezistorech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c) Urči proud v nerozvětvené části obvod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) Urči celkový odpor rezistor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ÚLOHA Č. 3 – ŘEŠENÍ A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2286000" y="1785960"/>
            <a:ext cx="39290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ÚLOHA Č. 3 – ŘEŠENÍ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 = 12 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60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20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b) 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, 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c) I =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) 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-----------------------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2"/>
              <p:cNvSpPr txBox="1"/>
              <p:nvPr/>
            </p:nvSpPr>
            <p:spPr>
              <a:xfrm>
                <a:off x="4714920" y="1428840"/>
                <a:ext cx="9874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3"/>
              <p:cNvSpPr txBox="1"/>
              <p:nvPr/>
            </p:nvSpPr>
            <p:spPr>
              <a:xfrm>
                <a:off x="4714920" y="2324160"/>
                <a:ext cx="9874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4"/>
              <p:cNvSpPr txBox="1"/>
              <p:nvPr/>
            </p:nvSpPr>
            <p:spPr>
              <a:xfrm>
                <a:off x="4714920" y="3214800"/>
                <a:ext cx="12463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5"/>
              <p:cNvSpPr txBox="1"/>
              <p:nvPr/>
            </p:nvSpPr>
            <p:spPr>
              <a:xfrm>
                <a:off x="6475320" y="1428840"/>
                <a:ext cx="103824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6"/>
              <p:cNvSpPr txBox="1"/>
              <p:nvPr/>
            </p:nvSpPr>
            <p:spPr>
              <a:xfrm>
                <a:off x="6488280" y="2357280"/>
                <a:ext cx="1012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7"/>
              <p:cNvSpPr txBox="1"/>
              <p:nvPr/>
            </p:nvSpPr>
            <p:spPr>
              <a:xfrm>
                <a:off x="6513480" y="3214800"/>
                <a:ext cx="12193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8"/>
              <p:cNvSpPr txBox="1"/>
              <p:nvPr/>
            </p:nvSpPr>
            <p:spPr>
              <a:xfrm>
                <a:off x="4786200" y="3857760"/>
                <a:ext cx="1311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9"/>
              <p:cNvSpPr txBox="1"/>
              <p:nvPr/>
            </p:nvSpPr>
            <p:spPr>
              <a:xfrm>
                <a:off x="4786200" y="4357800"/>
                <a:ext cx="25178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,2</m:t>
                    </m:r>
                    <m:r>
                      <m:t xml:space="preserve">+</m:t>
                    </m:r>
                    <m:r>
                      <m:t xml:space="preserve">0,6</m:t>
                    </m:r>
                    <m:r>
                      <m:t xml:space="preserve">=</m:t>
                    </m:r>
                    <m:r>
                      <m:t xml:space="preserve">0,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10"/>
              <p:cNvSpPr txBox="1"/>
              <p:nvPr/>
            </p:nvSpPr>
            <p:spPr>
              <a:xfrm>
                <a:off x="4714920" y="5000760"/>
                <a:ext cx="157176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11"/>
              <p:cNvSpPr txBox="1"/>
              <p:nvPr/>
            </p:nvSpPr>
            <p:spPr>
              <a:xfrm>
                <a:off x="4714920" y="6045120"/>
                <a:ext cx="24098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DROJE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BOHUNĚK, Jiří; </a:t>
            </a:r>
            <a:r>
              <a:rPr b="0" i="1" lang="cs-CZ" sz="2000" spc="-1" strike="noStrike">
                <a:solidFill>
                  <a:srgbClr val="000000"/>
                </a:solidFill>
                <a:latin typeface="Century Schoolbook"/>
              </a:rPr>
              <a:t>Sbírka úloh z fyziky pro žáky základních škol 3. díl. 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1. vyd. Praha: Prometheus, 1994. ISBN 80-85849-04-6. 152 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Zástupný symbol pro zápatí 2"/>
          <p:cNvSpPr/>
          <p:nvPr/>
        </p:nvSpPr>
        <p:spPr>
          <a:xfrm>
            <a:off x="468360" y="623736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ázev: Spojování rezistorů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atum: 16.4.2012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utor: Mgr. Darina Kubášková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á anotace: Procvičování probraného učiva na dané téma.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etodické zhodnocení: Určeno pro žáky 8. ročníku. Práce na celou vyučovací hodinu. Žáci pracují samostatně a postupně řeší zadané úlohy. Vždy následuje společná kontrola a vysvětlení, po každém příkladu nutná diskuze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SPOJOVÁNÍ REZISTORŮ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Procvičován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Zástupný symbol pro zápatí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PAKOVÁ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apiš všechny tři tvary Ohmova zákona pro kovový vodič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Zástupný symbol pro zápatí 3"/>
          <p:cNvSpPr/>
          <p:nvPr/>
        </p:nvSpPr>
        <p:spPr>
          <a:xfrm rot="5400000">
            <a:off x="6940440" y="234648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6"/>
              <p:cNvSpPr txBox="1"/>
              <p:nvPr/>
            </p:nvSpPr>
            <p:spPr>
              <a:xfrm>
                <a:off x="1714680" y="2786040"/>
                <a:ext cx="113796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7"/>
              <p:cNvSpPr txBox="1"/>
              <p:nvPr/>
            </p:nvSpPr>
            <p:spPr>
              <a:xfrm>
                <a:off x="4181400" y="2857680"/>
                <a:ext cx="12067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8"/>
              <p:cNvSpPr txBox="1"/>
              <p:nvPr/>
            </p:nvSpPr>
            <p:spPr>
              <a:xfrm>
                <a:off x="3000240" y="4429080"/>
                <a:ext cx="1552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NAKRESLI SCHÉM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ériového zapojení dvou rezistorů ke zdroji napět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aralelního zapojení dvou rezistorů ke zdroji napět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ÚLOHA Č.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 elektrickém obvodu jsou zapojeny tři rezistory (podle schématu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entury Schoolbook"/>
              </a:rPr>
              <a:t>Vypočítej výsledný odpor těchto rezistorů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entury Schoolbook"/>
              </a:rPr>
              <a:t>Jak velký proud prochází tímto obvodem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entury Schoolbook"/>
              </a:rPr>
              <a:t>Vypočítej napětí na jednotlivých rezistorech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4000680" y="2286000"/>
            <a:ext cx="40957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ÚLOHA Č. 1 - ŘEŠE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 = 220 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100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300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40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 =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 =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, 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, 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=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----------------------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6"/>
              <p:cNvSpPr txBox="1"/>
              <p:nvPr/>
            </p:nvSpPr>
            <p:spPr>
              <a:xfrm>
                <a:off x="3286080" y="1643040"/>
                <a:ext cx="2070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7"/>
              <p:cNvSpPr txBox="1"/>
              <p:nvPr/>
            </p:nvSpPr>
            <p:spPr>
              <a:xfrm>
                <a:off x="3286080" y="2143080"/>
                <a:ext cx="34322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8"/>
              <p:cNvSpPr txBox="1"/>
              <p:nvPr/>
            </p:nvSpPr>
            <p:spPr>
              <a:xfrm>
                <a:off x="3357720" y="2643120"/>
                <a:ext cx="8571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9"/>
              <p:cNvSpPr txBox="1"/>
              <p:nvPr/>
            </p:nvSpPr>
            <p:spPr>
              <a:xfrm>
                <a:off x="3357720" y="3500280"/>
                <a:ext cx="19746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0"/>
              <p:cNvSpPr txBox="1"/>
              <p:nvPr/>
            </p:nvSpPr>
            <p:spPr>
              <a:xfrm>
                <a:off x="3214800" y="4500720"/>
                <a:ext cx="135720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11"/>
              <p:cNvSpPr txBox="1"/>
              <p:nvPr/>
            </p:nvSpPr>
            <p:spPr>
              <a:xfrm>
                <a:off x="3214800" y="5143680"/>
                <a:ext cx="17301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12"/>
              <p:cNvSpPr txBox="1"/>
              <p:nvPr/>
            </p:nvSpPr>
            <p:spPr>
              <a:xfrm>
                <a:off x="3214800" y="5715000"/>
                <a:ext cx="1278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3"/>
              <p:cNvSpPr txBox="1"/>
              <p:nvPr/>
            </p:nvSpPr>
            <p:spPr>
              <a:xfrm>
                <a:off x="5143680" y="4500720"/>
                <a:ext cx="140940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4"/>
              <p:cNvSpPr txBox="1"/>
              <p:nvPr/>
            </p:nvSpPr>
            <p:spPr>
              <a:xfrm>
                <a:off x="5143680" y="5143680"/>
                <a:ext cx="178092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⋅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5"/>
              <p:cNvSpPr txBox="1"/>
              <p:nvPr/>
            </p:nvSpPr>
            <p:spPr>
              <a:xfrm>
                <a:off x="5143680" y="5715000"/>
                <a:ext cx="14364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6"/>
              <p:cNvSpPr txBox="1"/>
              <p:nvPr/>
            </p:nvSpPr>
            <p:spPr>
              <a:xfrm>
                <a:off x="7207200" y="4497480"/>
                <a:ext cx="13842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7"/>
              <p:cNvSpPr txBox="1"/>
              <p:nvPr/>
            </p:nvSpPr>
            <p:spPr>
              <a:xfrm>
                <a:off x="7215120" y="5143680"/>
                <a:ext cx="16239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8"/>
              <p:cNvSpPr txBox="1"/>
              <p:nvPr/>
            </p:nvSpPr>
            <p:spPr>
              <a:xfrm>
                <a:off x="7215120" y="5715000"/>
                <a:ext cx="1428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ÚLOHA Č.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 elektrickém obvodu jsou ke zdroji napětí 6 V připojeny sériově dvě žárovky o odporech 10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a 15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) Nakresli schéma zapojen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b) Urči výsledný odpor žárovek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c) Urči celkový proud, který prochází vodič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) Urči napětí na žárovce s odporem 10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ÚLOHA Č. 2 – ŘEŠENÍ A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Zástupný symbol pro zápatí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Arial"/>
              </a:rPr>
              <a:t>Autorem materiálu a všech jeho částí, není-li uvedeno jinak, je Mgr. Darina Kubá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3"/>
          <a:stretch/>
        </p:blipFill>
        <p:spPr>
          <a:xfrm>
            <a:off x="2428920" y="2000160"/>
            <a:ext cx="392904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9:55:49Z</dcterms:created>
  <dc:creator>Jičínská Ema</dc:creator>
  <dc:description/>
  <dc:language>en-US</dc:language>
  <cp:lastModifiedBy>cevorovaa</cp:lastModifiedBy>
  <dcterms:modified xsi:type="dcterms:W3CDTF">2014-09-03T09:36:47Z</dcterms:modified>
  <cp:revision>76</cp:revision>
  <dc:subject/>
  <dc:title>Snímek 1</dc:title>
</cp:coreProperties>
</file>