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DBE-91C2-4A5D-B3A6-46A50E1ADC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CA2-27B1-48D5-98A8-0E2EC063F495}" type="slidenum">
              <a:rPr b="0" lang="cs-CZ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cs-CZ" sz="1300" spc="-1" strike="noStrike">
                <a:solidFill>
                  <a:srgbClr val="4b25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4b25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4b25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99E-9B8D-4FA1-8D67-3E5EFA488E7A}" type="slidenum">
              <a:rPr b="0" lang="cs-CZ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6F7E-ECC6-4825-89A6-1A5456C1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839B-ACFB-474D-9C2B-67DE61D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868F-E75F-491F-874D-25CFB9A8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AB20-3BCB-43CE-9B07-91381E3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25F4-23DC-4D72-B32A-1AB63405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A093-A778-46B1-BB87-2AABB432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6330-537C-4C27-9145-B2D7138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6D4-7776-464F-BAE1-1553D815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4242-7428-425B-A132-9E8D7D4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782-97E6-4672-ABB8-95E705B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107-A957-42BB-8154-7A2986D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791F-0E2C-47CF-880F-AC2AEFB5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80BF-8D3E-4AE1-8CAF-ECDE78B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DA7-D822-4338-A9F7-6D83E5F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71F-5271-483B-BE29-AB4820D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1FF9-B50D-400C-825E-034B1ED6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9BB4-8ECD-4605-A372-02F0088B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C70D-750D-44BC-B591-5675A00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73E4-696A-4FDD-98F4-33C1113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57B8-5A2D-473D-B004-20BBB46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EC5D-0890-4D08-A410-55DC5ED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0CBF-C377-425B-A862-2F02772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FF1E-A5F0-4C1E-A8E8-4930305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3F1F-4A7F-4652-BEBB-D257B8D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C08-B931-40AB-8B5C-0023EC49A2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Franklin Gothic Medium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Franklin Gothic Medium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Franklin Gothic Medium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Franklin Gothic Medium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Franklin Gothic Medium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596-4503-48C0-9565-E97F1815E524}" type="slidenum">
              <a:rPr b="0" lang="cs-CZ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09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1280" y="1700280"/>
          <a:ext cx="6837120" cy="14317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b25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5_SADA5_VYC_9ROC_TRANSFORMATOR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pic>
        <p:nvPicPr>
          <p:cNvPr id="114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15" name="Obrázek 10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6157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17200" y="2408040"/>
            <a:ext cx="7364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Transformátor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</a:t>
            </a:r>
            <a:r>
              <a:rPr b="1" lang="cs-CZ" sz="1400" spc="-1" strike="noStrike">
                <a:solidFill>
                  <a:srgbClr val="040200"/>
                </a:solidFill>
                <a:latin typeface="Arial"/>
              </a:rPr>
              <a:t>19.12. 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transformátor a jeho užití s otázkami a příklady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počítání příkladů k procvičení dané problematiky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a69564"/>
                </a:solidFill>
                <a:latin typeface="Garamond"/>
              </a:rPr>
              <a:t>TRANSFORMÁTORY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zápatí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69564"/>
                </a:solidFill>
                <a:latin typeface="Garamond"/>
              </a:rPr>
              <a:t>Transformátor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4b2500"/>
                </a:solidFill>
                <a:uFillTx/>
                <a:latin typeface="Times New Roman"/>
              </a:rPr>
              <a:t>Základní části transformátoru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- dvě cívky na společném jádře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- </a:t>
            </a:r>
            <a:r>
              <a:rPr b="0" i="1" lang="cs-CZ" sz="3200" spc="-1" strike="noStrike">
                <a:solidFill>
                  <a:srgbClr val="4b2500"/>
                </a:solidFill>
                <a:latin typeface="Times New Roman"/>
              </a:rPr>
              <a:t>primární cívka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… vstupní střídavé napětí U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, počet závitů N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- </a:t>
            </a:r>
            <a:r>
              <a:rPr b="0" i="1" lang="cs-CZ" sz="3200" spc="-1" strike="noStrike">
                <a:solidFill>
                  <a:srgbClr val="4b2500"/>
                </a:solidFill>
                <a:latin typeface="Times New Roman"/>
              </a:rPr>
              <a:t>sekundární cívka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…výstupní střídavé napětí U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, počet závitů N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, připojuje se ke spotřebiči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362320" y="3805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Garamond"/>
              </a:rPr>
              <a:t>Schéma transformátoru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6" name="Picture 4" descr="ukol4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zápatí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69564"/>
                </a:solidFill>
                <a:latin typeface="Garamond"/>
              </a:rPr>
              <a:t>Transformátor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4b2500"/>
                </a:solidFill>
                <a:uFillTx/>
                <a:latin typeface="Times New Roman"/>
              </a:rPr>
              <a:t>Princip činnosti transformátoru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- stř.proud procházející primární cívkou vytváří v jádře transformátoru měnící se mg.pole, tím se v sekundární cívce indukuje stř.napětí U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, které má stejný kmitočet jako napětí na primární cívce U</a:t>
            </a:r>
            <a:r>
              <a:rPr b="0" lang="cs-CZ" sz="3200" spc="-1" strike="noStrike" baseline="-25000">
                <a:solidFill>
                  <a:srgbClr val="4b25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b2500"/>
                </a:solidFill>
                <a:latin typeface="Times New Roman"/>
              </a:rPr>
              <a:t>Schematická značka transformátoru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315200" y="4343400"/>
            <a:ext cx="10382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zápatí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69564"/>
                </a:solidFill>
                <a:latin typeface="Garamond"/>
              </a:rPr>
              <a:t>Transformátor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Transformátor je zařízení, které umožňuje měnit střídavé napětí U</a:t>
            </a:r>
            <a:r>
              <a:rPr b="0" lang="cs-CZ" sz="2800" spc="-1" strike="noStrike" baseline="-25000">
                <a:solidFill>
                  <a:srgbClr val="4b25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 na střídavé napětí U</a:t>
            </a:r>
            <a:r>
              <a:rPr b="0" lang="cs-CZ" sz="2800" spc="-1" strike="noStrike" baseline="-25000">
                <a:solidFill>
                  <a:srgbClr val="4b25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 se stejným kmitočtem, ale jinou hodnotou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Podíl počtu závitů sekundární cívky N</a:t>
            </a:r>
            <a:r>
              <a:rPr b="0" lang="cs-CZ" sz="2800" spc="-1" strike="noStrike" baseline="-25000">
                <a:solidFill>
                  <a:srgbClr val="4b25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 a primární cívky N</a:t>
            </a:r>
            <a:r>
              <a:rPr b="0" lang="cs-CZ" sz="2800" spc="-1" strike="noStrike" baseline="-25000">
                <a:solidFill>
                  <a:srgbClr val="4b25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 se nazývá </a:t>
            </a:r>
            <a:r>
              <a:rPr b="1" lang="cs-CZ" sz="2800" spc="-1" strike="noStrike">
                <a:solidFill>
                  <a:srgbClr val="4b2500"/>
                </a:solidFill>
                <a:latin typeface="Times New Roman"/>
              </a:rPr>
              <a:t>transformační poměr </a:t>
            </a:r>
            <a:r>
              <a:rPr b="1" i="1" lang="cs-CZ" sz="2800" spc="-1" strike="noStrike">
                <a:solidFill>
                  <a:srgbClr val="4b25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4b25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447920" y="4114800"/>
                <a:ext cx="16999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4876920" y="4267080"/>
                <a:ext cx="251460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zápatí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69564"/>
                </a:solidFill>
                <a:latin typeface="Garamond"/>
              </a:rPr>
              <a:t>Otázky a úkol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Popiš základní části transformátoru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Nakresli schematickou značku transformátoru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Vysvětli princip činnosti transformátoru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Co je to transformační poměr a jak se počítá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Vysvětli pojem transformace nahoru a transformace dolů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zápatí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b25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4b2500"/>
              </a:solidFill>
              <a:latin typeface="Franklin Gothic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Primární cívka transformátoru má 720 závitů. Kolik závitů by měla mít sekundární cívky, aby transformátor bylo možné použít pro el.zvonek určený na 10 V, když máme k dispozici pouze síťové napětí 220 V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b2500"/>
                </a:solidFill>
                <a:latin typeface="Garamond"/>
              </a:rPr>
              <a:t>Má se transformovat stř.napětí 250 V na stř.napětí 50 V. Jaký bude transformační poměr? Navrhni, jakou cívku je možné použít do transformátoru jako primární a jakou jako sekundární ze soupravy cívek s těmito počty závitů: 60, 300, 600, 1200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4:0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