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66E-2BBC-4762-AF5A-FAD87BECBB9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F30-CFF6-4CC2-9AD6-E353F772FD98}" type="slidenum">
              <a:rPr b="0" lang="cs-CZ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B158-3CDC-4942-8007-AD7364D373FD}" type="slidenum">
              <a:rPr b="0" lang="cs-CZ" sz="13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3D5-9D6E-4A81-BD0A-067375CA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FE9-5748-40A8-90E1-5C77547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0D0-62E2-4E72-89C2-863ED1E5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603-9079-4227-8EAC-F8CA18E8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AD9-0524-4E66-A16B-640771BF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073-35B9-4AA8-8E75-989843A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12C-BD1E-4434-A6DC-ADD185F8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7F99-757C-4330-9C7C-9DFFF833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4C1-59BE-434B-9814-390A7725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5618-E7A7-40F2-800E-F037BF6D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539-3331-4EDA-B297-4BDCFD7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BED-34C7-4BF2-A1EC-6A2855F5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2B1-BD46-46A9-8A4B-47B7C3C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3E3-2407-4EC7-804D-3301CA0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678-946C-4BDC-922F-7F9CEDD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277-2496-4DF8-AEC1-D54EFFA4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D1BE-EF46-4A35-AB36-B10D929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CEA-C021-4202-AF6F-BBB7AB7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7F2-A582-41BA-8094-3B332B67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305-06F9-44E0-83B4-B07EE085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ED5-1548-4A0A-A5EC-D1E66261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DBE-9F0D-4139-818C-2D58B65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302-9835-4350-B64E-BB79027F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C64-BC7F-425F-BEE0-AFAF721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FE0B-B983-481B-8DFC-31D0C9EC1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D2A-CF16-4499-9B3C-CE49BA4CDA46}" type="slidenum"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700280"/>
          <a:ext cx="6837120" cy="121896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2_SADA5_VYC_6ROC_VZAJEMNE_PUSOBENI_TELE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6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0" descr=""/>
          <p:cNvPicPr/>
          <p:nvPr/>
        </p:nvPicPr>
        <p:blipFill>
          <a:blip r:embed="rId2"/>
          <a:stretch/>
        </p:blipFill>
        <p:spPr>
          <a:xfrm>
            <a:off x="1447920" y="4495680"/>
            <a:ext cx="6157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ro zápatí 6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Otázky a úkol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68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A) Ke každému obrázku urči, jaký druh síly   zde působí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8" name="Obdélník 11"/>
          <p:cNvSpPr/>
          <p:nvPr/>
        </p:nvSpPr>
        <p:spPr>
          <a:xfrm>
            <a:off x="2286000" y="5943600"/>
            <a:ext cx="7621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3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Obdélník 12"/>
          <p:cNvSpPr/>
          <p:nvPr/>
        </p:nvSpPr>
        <p:spPr>
          <a:xfrm>
            <a:off x="5562720" y="2057400"/>
            <a:ext cx="76176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2320" y="38098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zápatí 4"/>
          <p:cNvSpPr/>
          <p:nvPr/>
        </p:nvSpPr>
        <p:spPr>
          <a:xfrm>
            <a:off x="4267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Otázky a úkol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B) Uveď příklad vzájemného působení těles, při kterém dochází ke změně tvaru těles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C) Uveď příklad vzájemného působení těles „na dálku“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Otázky a úkoly - řešení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1. magnetická síl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2. gravitační síl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3. elektrická síl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vzájemné působení ruky a pružiny, ruky a mycí houby, 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kovový předmět v blízkosti magnetu – magnet přitahuje těleso z kovu magnetickou silou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Zdroj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Arial"/>
              </a:rPr>
              <a:t>Obr. 1: http://ucivozs.sweb.cz/89.htm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Arial"/>
              </a:rPr>
              <a:t>Obr. 2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stockphotos.cz/image.php?img_id=992499&amp;img_type=1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Arial"/>
              </a:rPr>
              <a:t>Obr. 3: http://www.abicko.cz/clanek/casopis-abc/7785/nadychana-kridla-seskoky-padakem.htm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zájemné působení těles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24.11. 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vzájemné působení těles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6. ročníku k prezentaci nové látky včetně procvičování, kdy žáci po výkladu a pochopení látky odpovídají na zadané otázky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200400" y="6019920"/>
            <a:ext cx="2895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Vzájemné působení těles, síl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5880" y="4572000"/>
            <a:ext cx="1828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6.ročník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zápatí 4"/>
          <p:cNvSpPr/>
          <p:nvPr/>
        </p:nvSpPr>
        <p:spPr>
          <a:xfrm>
            <a:off x="47242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ff"/>
                </a:solidFill>
                <a:latin typeface="Times New Roman"/>
              </a:rPr>
              <a:t>Vzájemné působení ruky a pružiny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754280" y="5105520"/>
            <a:ext cx="621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Times New Roman"/>
              </a:rPr>
              <a:t>Tím, že pružinu natahujeme, měníme tvar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Times New Roman"/>
              </a:rPr>
              <a:t>pružiny, přitom pociťujeme, že pružina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Times New Roman"/>
              </a:rPr>
              <a:t>působí na naši ruku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Obdélník 5"/>
          <p:cNvSpPr/>
          <p:nvPr/>
        </p:nvSpPr>
        <p:spPr>
          <a:xfrm>
            <a:off x="8229600" y="3200400"/>
            <a:ext cx="7621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ff"/>
                </a:solidFill>
                <a:latin typeface="Times New Roman"/>
              </a:rPr>
              <a:t>Další příklady vzájemného působení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opřete se o zeď – působíte na zeď silou a zároveň zeď působí silou na vás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okuste se chytit  míč, který vám hodí spolužák, vaše ruce zabrzdí míč  a současně míč tlačí na vaše ruc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Vzájemné působení - závě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2895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ŮSOBENÍ TĚLES JE VŽDY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VZÁJEMNÉ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4"/>
          <p:cNvSpPr/>
          <p:nvPr/>
        </p:nvSpPr>
        <p:spPr>
          <a:xfrm>
            <a:off x="4267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Zavedení pojmu „síla“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ro přesnější popis vzájemného působení těles užíváme ve fyzice slovo, které znáte z běžného života – SÍ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říkáme: prst natahuje pružinu silou a pružina tlačí silou na prs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Síl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Magnetická síla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viz. ukázka tyčový magnet působící na kovovou kuličku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Gravitační síla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pustíme-li z ruky tužku, padá k zemi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Elektrická síla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list papíru a eurofolie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zápatí 4"/>
          <p:cNvSpPr/>
          <p:nvPr/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ůsobí-li jedno těleso na druhé silou, působí i druhé těleso na první stejně velkou silou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Vzájemným silovým působením se může změnit tvar těles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Tělesa na sebe můžou působit přímým dotykem nebo „na dálku“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(např. el., mg. nebo gravitační silou 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6:2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