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2C57-5A1E-4C49-9502-69FF38F1DA5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B9A0-97D5-4D5F-B90F-450F9DE8DB0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C237-1E08-475A-8FC0-274F9F68825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2A8-FE7D-40A9-8A8D-5B9EF9B0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BD5-3438-48D8-8599-9C3CCE52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DFD-270B-4108-B7BF-84741AB0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0F0-1F7D-4BB6-B062-919EBF47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8CD6-693E-4EFF-8B7A-4ED45428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8036-8EFE-4F36-BC6A-F1592DCF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9000-A9BD-452B-90A0-C40A9F80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DF79-8371-414A-BDE6-A14A8553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319C-DD86-4B39-B6CE-9FDDC9C2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C56B-33E5-4C43-BE74-8B73366E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DDD6-DB62-4749-8CFC-36DCDD84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094-6015-4DE7-8FC4-5574BD7E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EF7A-A92A-4840-A126-AD100BA2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1F1D-4730-428A-8301-E448048A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F54E-ECD4-4F6D-A2F9-5866D780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D3FD-5D1C-4C11-A3A5-2A30386D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FBFD-E382-4FAF-91C0-92F311D6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9E6-87F4-4778-A1B7-A9652F68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D61-C1AB-49F6-88A5-B9BF862E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C95-64B9-4B80-BBD8-937EC916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D04-B47A-43DF-8538-2AC602AF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8A6-EAD8-4578-AC66-ED4A0ECE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E00-9897-4B35-B786-1979F694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DFB3-0BEC-4FF2-8E51-39652248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E49A-98D9-4F35-A414-DAE992A8FA05}" type="slidenum">
              <a:rPr b="0" lang="cs-CZ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28A0-3018-4DA9-B380-22330E8800D4}" type="slidenum">
              <a:rPr b="0" lang="cs-CZ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3"/>
          <p:cNvSpPr/>
          <p:nvPr/>
        </p:nvSpPr>
        <p:spPr>
          <a:xfrm>
            <a:off x="380880" y="6172200"/>
            <a:ext cx="8207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1280" y="1700280"/>
          <a:ext cx="6837120" cy="143172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116"/>
          <p:cNvSpPr/>
          <p:nvPr/>
        </p:nvSpPr>
        <p:spPr>
          <a:xfrm>
            <a:off x="395280" y="3129120"/>
            <a:ext cx="849780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06_SADA5_VYC_9ROC_VEDENI_PROUDU_V_KAPALINA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Člověk a přírod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Fy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124" name="Obrázek 10" descr=""/>
          <p:cNvPicPr/>
          <p:nvPr/>
        </p:nvPicPr>
        <p:blipFill>
          <a:blip r:embed="rId2"/>
          <a:stretch/>
        </p:blipFill>
        <p:spPr>
          <a:xfrm>
            <a:off x="1476360" y="4437000"/>
            <a:ext cx="61578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Zástupný symbol pro zápatí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Další využití elektrolýzy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LAROGRAF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louží k určování přítomnosti neznámých látek v roztoku … tuto metodu vytvořil český fyzik Jaroslav Heyrovský (1953 Nobelova cena za fyzik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Zástupný symbol pro zápatí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Otázky a úkoly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Čím je tvořen el.proud ve vodném roztoku sol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Vysvětli, proč vodný kuchyňské roztok soli vede el.prou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Objasni, proč je nebezpečné při úklidu omývat el.zásuvku mokrým hadr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Jak se nazývá záporná elektrod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Zástupný symbol pro zápatí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42560" y="76464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Jaký proud prochází lidským tělem, když odpor části těla, kterou prochází proud, je 80 kiloohmů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Proč je naše tělo vodičem el.proudu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Co je to polarografie a který český fyzik za ni dostal Nobelovu cenu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Co je to koroze a jakými způsoby jí lze zabrán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Co je elektroly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ázev: Vedení el.proudu v kapalinách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atum: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16.1. 2012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utor: Mgr. Kristýna Soud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á anotace: Výklad nové látky na téma vedení el.proudu v kapalinách s otázkami k procvičení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etodické zhodnocení: Určeno pro žáky 9. ročníku k prezentaci nové látky včetně procvičování, kdy žáci po výkladu a pochopení látky odpovídají na zadané otázk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10360" y="6095880"/>
            <a:ext cx="71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5640" y="28526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Vedení elektrického proudu v kapalinách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Zástupný symbol pro zápatí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Poku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oda v nádobě mezi dvěma elektrodami součástí el.obvodu, použijeme-li vodu z vodovodu, žárovka se nerozsvítí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dyž do vody začneme sypat sůl (dostatečné množství), žárovka se rozsvít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pro zápatí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Pokus – vysvětlení pozorovaného jevu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4596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i rozpouštění kuchyňské soli (NaCl) v H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 vznikají volně neuspořádaně se pohybující kationty sodíku Na+ a anionty chloru Cl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 uzavření obvodu se mezi elektrodami (stejně jako v celém obvodu) vytvoří el.pole, jeho působením se Na+ začnou pohybovat k záporné elektrodě a Cl- ke kladné elektrod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zápatí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Poku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iz ukázka elektrolýzy při hodin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Kladná elektroda – ano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Záporná elektroda - kato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ástupný symbol pro zápatí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El.proud v kapalinách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El.proud ve vodném roztoku soli je tvořen usměrněným pohybem kationtů a aniont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Kapaliny, které obsahují volné ionty, vedou el.proud a nazývají se elektroly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Zástupný symbol pro zápatí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Pokovování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nalogický pokus, místo NaCl akorát použijeme roztok modré skalice CuSO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… pozorujeme, že na záporné elektrodě se vylučuje měď C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užití: ocelový hřebík chceme pokrýt vrstvou mědi, aby nerezivěl (zapojíme ho jako záp.elektrod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gr. Kristýna Soudková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99"/>
                </a:solidFill>
                <a:latin typeface="Tahoma"/>
              </a:rPr>
              <a:t>Koroze - rezivění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hemická porucha povrchu ko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xidace působením vzdušného kyslíku a vlhkosti vzdu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ak korozi zabráni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apř. pozinkováním ocelových součástí (Zn koroduje cca 10x pomaleji než oce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vorovaa</cp:lastModifiedBy>
  <dcterms:modified xsi:type="dcterms:W3CDTF">2014-09-03T09:34:23Z</dcterms:modified>
  <cp:revision>13</cp:revision>
  <dc:subject/>
  <dc:title>PowerPoint Presentation</dc:title>
</cp:coreProperties>
</file>