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665D-1F7E-4D87-B2AB-EE234E2AD4F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08B8-2692-40D2-8D3E-9E5766EEBCA4}" type="slidenum">
              <a:rPr b="0" lang="cs-CZ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6699"/>
                </a:solidFill>
                <a:latin typeface="Arial"/>
              </a:rPr>
              <a:t>EU Peníze školám</a:t>
            </a:r>
            <a:r>
              <a:rPr b="0" lang="cs-CZ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336699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3848-1157-4329-A200-04ADFE7AF620}" type="slidenum">
              <a:rPr b="0" lang="cs-CZ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28E-9F6C-4E28-837F-5C44E4FA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FBF-B4C8-457C-BAC1-89F6A66C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F4C-44F5-4141-9511-C7D1534C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013-A50E-48F0-9D49-E388A680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0BE7-51AA-4AE5-9AF4-4F163924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FB84-33D1-4FF7-9779-BEE4225D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F463-E0A6-47E3-8A3E-723AAFC8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3561-E7ED-432E-A0A9-6224EEAD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A194-3085-4EE1-A6A4-4BD60D75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AF09-844F-4CA5-8A6F-1A39AA53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1444-6FDE-489E-968C-097EAE95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CE9-DB01-4851-AA5E-31072596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95F0-AFCA-40B4-A5F8-F8294298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4A1A-B94B-451C-B017-91BC1BC0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1537-38C8-4054-8A28-3FCB01C2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E0A9-4390-4D45-B82B-941AADDF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2508-390E-409B-8689-1AE1C17C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C41-886A-4994-98DB-99EC7CE0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F65-F096-4291-9C2E-E7370CF0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435-4B81-401C-8DC2-99B19CCB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48B-C992-4E51-82C3-F162D7A8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4C3-7C92-45B5-9524-AC929434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4EB-8435-4259-81ED-958070E2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893-64DD-4F5D-99D6-67DA563A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347C-7990-4565-9149-552EB6B46E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5CC3-65A6-4674-B8B8-7CFFC74CD768}" type="slidenum"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ro zápatí 3"/>
          <p:cNvSpPr/>
          <p:nvPr/>
        </p:nvSpPr>
        <p:spPr>
          <a:xfrm>
            <a:off x="380880" y="6172200"/>
            <a:ext cx="8207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1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2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700280"/>
          <a:ext cx="6837120" cy="143172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ovace a zkvalitnění výuky prostřednictvím ICT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16"/>
          <p:cNvSpPr/>
          <p:nvPr/>
        </p:nvSpPr>
        <p:spPr>
          <a:xfrm>
            <a:off x="395280" y="3129120"/>
            <a:ext cx="849780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11_SADA5_VYC_6ROC_GRAVITACNI_A_TIHOVA_SILA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Člověk a příroda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Fyzika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6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0" descr=""/>
          <p:cNvPicPr/>
          <p:nvPr/>
        </p:nvPicPr>
        <p:blipFill>
          <a:blip r:embed="rId2"/>
          <a:stretch/>
        </p:blipFill>
        <p:spPr>
          <a:xfrm>
            <a:off x="1619280" y="4437000"/>
            <a:ext cx="61596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Závislost hmotnosti a síly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čím je hmotnost tělesa větší, tím větší gravitační (tíhovou) silou na něj Země působí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0066"/>
                </a:solidFill>
                <a:latin typeface="Arial"/>
              </a:rPr>
              <a:t>Newtonův gravitační zákon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gravitační silou se vzájemně přitahují každá dvě tělesa (tato gravitační síla závisí na jejich hmotnostech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Otázky a úlohy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6699"/>
                </a:solidFill>
                <a:latin typeface="Arial"/>
              </a:rPr>
              <a:t>Objasni rozdíl  mezi gravitační a tíhovou silou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6699"/>
                </a:solidFill>
                <a:latin typeface="Arial"/>
              </a:rPr>
              <a:t>Jak se projevuje gravitační pole Země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6699"/>
                </a:solidFill>
                <a:latin typeface="Arial"/>
              </a:rPr>
              <a:t>Co je to olovnice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6699"/>
                </a:solidFill>
                <a:latin typeface="Arial"/>
              </a:rPr>
              <a:t>Jak zní Newtonův gravitační zákon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692000" y="476280"/>
            <a:ext cx="712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6699"/>
                </a:solidFill>
                <a:latin typeface="Arial"/>
              </a:rPr>
              <a:t>Sestroj graf závislosti gravitační síly Země na vzdálenosti od Země.(na osu x vynes vzdálenosti od středu Země – R, 2R, 3R, 4R, 5R, kde R = 6378 km, osa y bude znázorňovat gravitační sílu Země). Co je grafem této závislosti? Jaká matematická křivka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Zdroj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6699"/>
                </a:solidFill>
                <a:latin typeface="Arial"/>
              </a:rPr>
              <a:t>Obr.1: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ttp://www.slovakia.travel/Photo/Album/Detail.aspx?l=1&amp;mm=2&amp;idf=103&amp;II=7&amp;ST=1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6699"/>
                </a:solidFill>
                <a:latin typeface="Arial"/>
              </a:rPr>
              <a:t>Obr. 2: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ttp://www.connexdiving.cz/cz/vylety/vodopady-krka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6699"/>
                </a:solidFill>
                <a:latin typeface="Arial"/>
              </a:rPr>
              <a:t>Obr. 3: http://www.sportuj.com/view.php?cisloclanku=2008080094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6699"/>
                </a:solidFill>
                <a:latin typeface="Arial"/>
              </a:rPr>
              <a:t>Obr. 4: http://cs.wikipedia.org/wiki/Gravitační_zrychlení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ázev: Gravitační a tíhová síla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atum:   30.11. 2011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utor: Mgr. Kristýna Soud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á anotace: Výklad nové látky na téma gravitační a tíhová síla s otázkami k procvičení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etodické zhodnocení: Určeno pro žáky 6. ročníku k prezentaci nové látky včetně procvičování, kdy žáci po výkladu a pochopení látky odpovídají na zadané otázky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810360" y="6095880"/>
            <a:ext cx="71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"/>
          <p:cNvSpPr/>
          <p:nvPr/>
        </p:nvSpPr>
        <p:spPr>
          <a:xfrm>
            <a:off x="32004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640" y="1413000"/>
            <a:ext cx="7772400" cy="41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ff"/>
                </a:solidFill>
                <a:latin typeface="Times New Roman"/>
              </a:rPr>
              <a:t>Vlastnosti látek a těl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839600" y="2060640"/>
            <a:ext cx="7304040" cy="314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6699"/>
                </a:solidFill>
                <a:latin typeface="Arial"/>
              </a:rPr>
              <a:t>Gravitační síla,tíhová síla, gravitační pole, měření síly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Gravitační síl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Země působí na všechna tělesa přitažlivou silou, která se nazývá </a:t>
            </a:r>
            <a:r>
              <a:rPr b="1" lang="cs-CZ" sz="3200" spc="-1" strike="noStrike">
                <a:solidFill>
                  <a:srgbClr val="660066"/>
                </a:solidFill>
                <a:latin typeface="Arial"/>
              </a:rPr>
              <a:t>gravitační síl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zn. Fg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působením gravitační síly jsou všechna tělesa přitahována směrem do středu Země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5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58920" y="549000"/>
            <a:ext cx="392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Gravitační síl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4176720" cy="3122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1908000" y="333360"/>
            <a:ext cx="2908440" cy="367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6156360" y="1989000"/>
            <a:ext cx="2477880" cy="3816360"/>
          </a:xfrm>
          <a:prstGeom prst="rect">
            <a:avLst/>
          </a:prstGeom>
          <a:ln w="0">
            <a:noFill/>
          </a:ln>
        </p:spPr>
      </p:pic>
      <p:sp>
        <p:nvSpPr>
          <p:cNvPr id="121" name="Obdélník 6"/>
          <p:cNvSpPr/>
          <p:nvPr/>
        </p:nvSpPr>
        <p:spPr>
          <a:xfrm>
            <a:off x="4929120" y="2286000"/>
            <a:ext cx="785880" cy="35712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99"/>
                </a:solidFill>
                <a:latin typeface="Times New Roman"/>
              </a:rPr>
              <a:t>Obr.1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2" name="Obdélník 7"/>
          <p:cNvSpPr/>
          <p:nvPr/>
        </p:nvSpPr>
        <p:spPr>
          <a:xfrm>
            <a:off x="7500960" y="5929200"/>
            <a:ext cx="785880" cy="3574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99"/>
                </a:solidFill>
                <a:latin typeface="Times New Roman"/>
              </a:rPr>
              <a:t>Obr.3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3" name="Obdélník 8"/>
          <p:cNvSpPr/>
          <p:nvPr/>
        </p:nvSpPr>
        <p:spPr>
          <a:xfrm>
            <a:off x="4429080" y="4572000"/>
            <a:ext cx="785880" cy="35712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99"/>
                </a:solidFill>
                <a:latin typeface="Times New Roman"/>
              </a:rPr>
              <a:t>Obr.2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Určení svislého směru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Svislý směr můžeme určit pomocí </a:t>
            </a:r>
            <a:r>
              <a:rPr b="1" i="1" lang="cs-CZ" sz="3200" spc="-1" strike="noStrike">
                <a:solidFill>
                  <a:srgbClr val="660066"/>
                </a:solidFill>
                <a:latin typeface="Arial"/>
              </a:rPr>
              <a:t>olovnice</a:t>
            </a:r>
            <a:r>
              <a:rPr b="1" i="1" lang="cs-CZ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(ocelová tyčka na provázku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Olovnici užívají např. zedníci (ověřují, zda stavěná zeď je svislá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Uveď jak se nazývá podobné zařízení, které ovšem slouží ke zjišťování </a:t>
            </a:r>
            <a:r>
              <a:rPr b="1" i="1" lang="cs-CZ" sz="3200" spc="-1" strike="noStrike">
                <a:solidFill>
                  <a:srgbClr val="336699"/>
                </a:solidFill>
                <a:latin typeface="Arial"/>
              </a:rPr>
              <a:t>vodorovné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 polohy? (ne svislé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Gravitační pol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kolem Země je gravitační pol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Jak se toto gravitační pole Země projevuje? … </a:t>
            </a:r>
            <a:r>
              <a:rPr b="1" lang="cs-CZ" sz="3200" spc="-1" strike="noStrike">
                <a:solidFill>
                  <a:srgbClr val="660066"/>
                </a:solidFill>
                <a:latin typeface="Arial"/>
              </a:rPr>
              <a:t>působením gravitační síly jsou všechna tělesa přitahována směrem do středu Země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čím větší je vzdálenost od Země, tím je gravitační síla menší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Tíhová síla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Je vektorovým součtem gravitační síly a odstředivé síly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zn. F</a:t>
            </a:r>
            <a:r>
              <a:rPr b="1" lang="cs-CZ" sz="3200" spc="-1" strike="noStrike" baseline="-25000">
                <a:solidFill>
                  <a:srgbClr val="336699"/>
                </a:solidFill>
                <a:latin typeface="Arial"/>
              </a:rPr>
              <a:t>G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tíhová síla uděluje padajícím tělesům v blízkosti Země tíhové zrychlení </a:t>
            </a:r>
            <a:r>
              <a:rPr b="1" i="1" lang="cs-CZ" sz="3200" spc="-1" strike="noStrike">
                <a:solidFill>
                  <a:srgbClr val="336699"/>
                </a:solidFill>
                <a:latin typeface="Arial"/>
              </a:rPr>
              <a:t>g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660066"/>
                </a:solidFill>
                <a:latin typeface="Arial"/>
              </a:rPr>
              <a:t>tíhová síla nám určuje svislý smě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ff"/>
                </a:solidFill>
                <a:latin typeface="Times New Roman"/>
              </a:rPr>
              <a:t>Rozdíl mezi tíhovou a gravitační silou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6121440" cy="458928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4"/>
          <p:cNvSpPr/>
          <p:nvPr/>
        </p:nvSpPr>
        <p:spPr>
          <a:xfrm>
            <a:off x="7000920" y="5072040"/>
            <a:ext cx="785880" cy="35712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99"/>
                </a:solidFill>
                <a:latin typeface="Times New Roman"/>
              </a:rPr>
              <a:t>Obr.4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vorovaa</cp:lastModifiedBy>
  <dcterms:modified xsi:type="dcterms:W3CDTF">2014-09-03T09:36:09Z</dcterms:modified>
  <cp:revision>22</cp:revision>
  <dc:subject/>
  <dc:title>PowerPoint Presentation</dc:title>
</cp:coreProperties>
</file>