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                                      Inovace ve vzdělávání na naší škole ZŠ Studán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dt" idx="23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12. 5.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2"/>
          <p:cNvSpPr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                                      Inovace ve vzdělávání na naší škole ZŠ Studán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1C8A0C-7773-4358-ABB6-06FB20310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352926-CA66-4AA1-8AC6-794B300B5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C82A7F-8F35-4CFA-BB8F-8A47FDBDC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266616-0D46-4C8A-8AA9-684D4186F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F4EA04-3328-45C5-A0DB-E92D74E31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5F7049-061A-4F51-ABB3-D7670AEC1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A70E86-7914-4274-B106-D700905C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815FA3-B373-449A-9A97-EC0767B4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08E458-8A9B-4895-89E8-B0AB48F9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33B524-868E-4F3A-A7BD-D19CE7B2B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F0707E-3423-47EF-8CB1-03B2CF70B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F2E462-2FE1-43A2-8274-C4B9E39B5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6CA02E-8AB5-4AFE-AB78-CE41CC858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5318EE-3A0E-4F18-A285-CC0CC63EE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D54263-8AFA-4E6C-A490-E3FCD660A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881AF2-478B-4C29-8BDA-B372A93E3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8EAF9E-2B20-4A18-9171-29693FFA3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93497B-65BA-4461-8BAE-F949FBE5A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26BF25-7D1A-474D-A831-0D76685D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BD724D-FE8B-4123-8512-D6B8960A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92BE4F-5FDE-4847-961F-3B81BE8E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C62A97-6626-43F4-90A4-8270619FA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E4BA97-1466-4B3A-9B53-1B3DF7CCB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488EC0-187E-4542-9AE2-367E9329E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E876E-13E5-4EDE-8F12-989155961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761A1-3A8B-41A8-AFAF-0FD7B70F3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0CE45-8A10-4F2D-9BE8-488C76E21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821F8-0EBD-4023-BF89-8DA44A159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785B3-8B4C-4E12-95B9-368EAA0C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F2A7C-9F72-479B-986C-4CB3B9A2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30C7A-670D-462B-A204-AA56374E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866A9-72C9-47DE-8DFA-03786ABD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738F3-7D01-4556-8502-653FD702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53BB1-87A5-46B4-B241-1A4AC7947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ACD29-9DEA-4092-B0A2-D440D825D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6CDF6-556A-4305-A5C6-DF9D23481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EB6058-BF8C-4581-8C27-6BB86BD57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5E67B1-D70F-4761-BECB-19639878F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BBE950-76C2-4689-B203-A18B8040E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15DDC1-FC6C-43C4-8351-5A8713FEF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25136C-38E2-48B0-9031-301022048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998016-4EE5-4E30-A383-60B4797AB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AFB1A5-8C45-4972-AFFC-C08B251F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3F7B22-4D8B-4FC8-ABA4-6BBAB895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BC1DA7-E671-4064-BD34-6DD1E417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403FE8-5535-4326-8818-03EA2D0FF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D2ED11-2C76-418C-82F5-C017DAED2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45B278-5620-4268-87FA-A56D8B67B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57C88-755D-4FB5-94A7-E0F8EDC0F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99181-9672-4F80-97D5-2158112F5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F713F-2416-45C6-9C28-CEB4FF40A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0C4C6-4DD1-481A-AE35-AE1E93D49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DACC7-432A-43A8-B8DF-D269A9B6C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2FE68-208E-41C8-9276-781C4B7C6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0F66F-A51B-465E-AA7A-508CEC8A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497A1-DCA2-49C2-A880-F675754F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A1118-47A4-4F06-AD9C-5258B925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B7422-7D1C-4D84-9A74-16C4900E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8DC0C-61BF-4109-9D0D-B1ED2E9C1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F55A2-9DEF-4851-8593-C4E38060C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AD07A-1026-4A0F-BEEA-16C48B638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47ACD-D04C-4565-BE4F-07250DDE6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CAB98-D194-4971-A846-F481E7AE4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72066-5DF2-4F87-8C19-CF1D2CE8C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631F1-ECD1-4C14-8579-86238D086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79879-701A-4D58-87FA-60C828E10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E7C24-E380-473E-B957-1AE49DF1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C4D8D-AFE7-45C3-9F54-60D101B9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EC8D2-AC07-4F3B-B3FC-442200C6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CBFDD-B070-48D7-8FC5-03BF8307B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B7F33-71F8-4E35-94AA-0EE5C87C4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C8CD7-4437-4AA8-AEF9-7D52818FD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D1150-3D13-4851-9661-807C5C742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F52D5-2BB1-4606-B366-949F76148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63D06-6BCB-4F5F-939A-25F8A0FD5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6EA4D7-1462-43AC-AE76-487A2F24F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E3C74-FCCB-4CA7-80B3-9C8867379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6CBBE7-A797-4171-ABD4-7D96B7B9E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DD18D8-3EEE-419E-89F7-A8FCE0EE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685FD-7A2A-4D99-A249-46453061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463A7-8CFB-426C-A5F1-217E35ED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A6C6CA-6E31-4BA3-847A-2069267C4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C93B1C-396C-4B32-A3B9-727DA52D1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5ABE4-3F82-4932-954A-BDFF703E0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8360" y="6237000"/>
            <a:ext cx="8207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3A9EA-491C-412E-A72D-02E1684100BE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Obdélník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bdélník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bdélník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bdélník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římá spojovací čára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římá spojovací čára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římá spojovací čára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římá spojovací čára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římá spojovací čára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římá spojovací čára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délník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Elipsa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Elipsa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Elipsa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Elipsa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Elipsa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5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6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7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79BAB-2B27-4F8C-BBA4-5877CB8DA31F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8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sldNum" idx="9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3EB43-A5FD-4D9C-A9A0-D86B873DEC0E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10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Obdélník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bdélník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bdélník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bdélník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římá spojovací čára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římá spojovací čára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římá spojovací čára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římá spojovací čára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římá spojovací čára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bdélník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Elipsa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Elipsa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Elipsa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Elipsa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Elipsa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římá spojovací čára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1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2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39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39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3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AB9E9-AD2E-4D5B-9701-B2B965D51B05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sldNum" idx="1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5FEEC-9642-4D44-8BED-B34EAC6383E7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16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římá spojovací čára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římá spojovací čára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římá spojovací čára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římá spojovací čára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bdélník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římá spojovací čára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Elipsa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1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sldNum" idx="1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8DD62-35BC-4697-A167-EC1D7308B51B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ftr" idx="1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římá spojovací čára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Elipsa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římá spojovací čára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bdélník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římá spojovací čára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římá spojovací čára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římá spojovací čára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sldNum" idx="2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6AEB2-D910-4E8D-AA5C-3726E40B3730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ftr" idx="2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Zástupný symbol pro zápatí 3"/>
          <p:cNvSpPr/>
          <p:nvPr/>
        </p:nvSpPr>
        <p:spPr>
          <a:xfrm>
            <a:off x="468360" y="6237360"/>
            <a:ext cx="8207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6"/>
          <p:cNvSpPr/>
          <p:nvPr/>
        </p:nvSpPr>
        <p:spPr>
          <a:xfrm>
            <a:off x="0" y="66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58"/>
          <p:cNvSpPr/>
          <p:nvPr/>
        </p:nvSpPr>
        <p:spPr>
          <a:xfrm>
            <a:off x="468360" y="301140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59"/>
          <p:cNvSpPr/>
          <p:nvPr/>
        </p:nvSpPr>
        <p:spPr>
          <a:xfrm>
            <a:off x="0" y="39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64"/>
          <p:cNvSpPr/>
          <p:nvPr/>
        </p:nvSpPr>
        <p:spPr>
          <a:xfrm>
            <a:off x="611280" y="1121040"/>
            <a:ext cx="691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Tento materiál byl vytvořen v rámci projektu  Operačního programu Vzdělávání pro konkurenceschopno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611280" y="1700280"/>
          <a:ext cx="6837120" cy="1096920"/>
        </p:xfrm>
        <a:graphic>
          <a:graphicData uri="http://schemas.openxmlformats.org/drawingml/2006/table">
            <a:tbl>
              <a:tblPr/>
              <a:tblGrid>
                <a:gridCol w="2243160"/>
                <a:gridCol w="45939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ojekt MŠMT Č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U PENÍZE ŠKOLÁ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Číslo projekt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Z.1.07/1.4.00/21.28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ázev projektu ško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aše škola, ZŠ Pardubice, Benešovo náměstí 5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líčová aktivita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III/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ovace a zkvalitnění výuky prostřednictvím I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1" name="Rectangle 116"/>
          <p:cNvSpPr/>
          <p:nvPr/>
        </p:nvSpPr>
        <p:spPr>
          <a:xfrm>
            <a:off x="395280" y="3114720"/>
            <a:ext cx="8497800" cy="24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Šablona č. III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Identifikátor: VY_32_INOVACE_01_SADA5_KBS_8ROC_VYK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Vzdělávací oblast: Člověk a příro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Vzdělávací obor: Fyzik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obrázek 1" descr=""/>
          <p:cNvPicPr/>
          <p:nvPr/>
        </p:nvPicPr>
        <p:blipFill>
          <a:blip r:embed="rId1"/>
          <a:stretch/>
        </p:blipFill>
        <p:spPr>
          <a:xfrm>
            <a:off x="3924360" y="189000"/>
            <a:ext cx="733320" cy="981000"/>
          </a:xfrm>
          <a:prstGeom prst="rect">
            <a:avLst/>
          </a:prstGeom>
          <a:ln w="0">
            <a:noFill/>
          </a:ln>
        </p:spPr>
      </p:pic>
      <p:pic>
        <p:nvPicPr>
          <p:cNvPr id="403" name="Obrázek 10" descr=""/>
          <p:cNvPicPr/>
          <p:nvPr/>
        </p:nvPicPr>
        <p:blipFill>
          <a:blip r:embed="rId2"/>
          <a:stretch/>
        </p:blipFill>
        <p:spPr>
          <a:xfrm>
            <a:off x="1547640" y="4437000"/>
            <a:ext cx="615816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PROCVIČOVÁNÍ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Urči výkon člověka, který zdvihl s využitím pevné kladky pytel cementu o hmotnosti 60 kg do výšky 2 m za 8 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Nákladní automobil táhne přívěs silou 15 000 N při stálé rychlosti 6 km/h. Jaký je výkon nákladního automobilu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4" name="Zástupný symbol pro zápatí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ZDROJE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KOLÁŘOVÁ, Růžena; BOHUNĚK, Jiří. </a:t>
            </a:r>
            <a:r>
              <a:rPr b="0" i="1" lang="cs-CZ" sz="2400" spc="-1" strike="noStrike">
                <a:solidFill>
                  <a:srgbClr val="000000"/>
                </a:solidFill>
                <a:latin typeface="Century Schoolbook"/>
              </a:rPr>
              <a:t>Fyzika pro 8. ročník základní školy. 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1. vyd. Praha: Prometheus, 2008. ISBN 978-80-7196-149-9. Kapitola 1.18, s. 22-25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7" name="Zástupný symbol pro zápatí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Zástupný symbol pro zápatí 2"/>
          <p:cNvSpPr/>
          <p:nvPr/>
        </p:nvSpPr>
        <p:spPr>
          <a:xfrm>
            <a:off x="468360" y="6237360"/>
            <a:ext cx="8207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Název: Výkon</a:t>
            </a:r>
            <a:br>
              <a:rPr sz="1400"/>
            </a:b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Datum: 23.9.2011</a:t>
            </a:r>
            <a:br>
              <a:rPr sz="1400"/>
            </a:b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Autor: Mgr. Darina Kubášková</a:t>
            </a:r>
            <a:br>
              <a:rPr sz="1400"/>
            </a:b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Stručná anotace: Výklad nové látky na téma výkon s řešením příkladů.</a:t>
            </a:r>
            <a:br>
              <a:rPr sz="1400"/>
            </a:b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Metodické zhodnocení: Určeno pro žáky 8. ročníku k prezentaci nové látky včetně procvičování, kdy žáci s pomocí učitele a poté samostatně řeší fyzikální úloh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575f6d"/>
                </a:solidFill>
                <a:latin typeface="Century Schoolbook"/>
              </a:rPr>
              <a:t>VÝK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8" name="Zástupný symbol pro zápatí 3"/>
          <p:cNvSpPr/>
          <p:nvPr/>
        </p:nvSpPr>
        <p:spPr>
          <a:xfrm rot="5400000">
            <a:off x="707652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VÝK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Práce vykonaná za určitý ča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Značka: </a:t>
            </a:r>
            <a:r>
              <a:rPr b="1" lang="cs-CZ" sz="2400" spc="-1" strike="noStrike">
                <a:solidFill>
                  <a:srgbClr val="000000"/>
                </a:solidFill>
                <a:latin typeface="Century Schoolbook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1" name="Picture 3" descr=""/>
          <p:cNvPicPr/>
          <p:nvPr/>
        </p:nvPicPr>
        <p:blipFill>
          <a:blip r:embed="rId1"/>
          <a:stretch/>
        </p:blipFill>
        <p:spPr>
          <a:xfrm>
            <a:off x="785880" y="2357280"/>
            <a:ext cx="6905520" cy="1071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12" name="Object 2"/>
              <p:cNvSpPr txBox="1"/>
              <p:nvPr/>
            </p:nvSpPr>
            <p:spPr>
              <a:xfrm>
                <a:off x="3500280" y="4071960"/>
                <a:ext cx="157176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3" name="Zástupný symbol pro zápatí 5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Výkon při rovnoměrném pohybu tělesa rychlostí v působením stálé síly F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6" name="Object 2"/>
              <p:cNvSpPr txBox="1"/>
              <p:nvPr/>
            </p:nvSpPr>
            <p:spPr>
              <a:xfrm>
                <a:off x="1500120" y="2714760"/>
                <a:ext cx="4496040" cy="13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s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Object 3"/>
              <p:cNvSpPr txBox="1"/>
              <p:nvPr/>
            </p:nvSpPr>
            <p:spPr>
              <a:xfrm>
                <a:off x="2857680" y="4357800"/>
                <a:ext cx="213012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8" name="Zástupný symbol pro zápatí 5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JEDNOTKA VÝKONU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Práce v joulech a čas v sekundách, jednotkou výkonu je </a:t>
            </a:r>
            <a:r>
              <a:rPr b="1" lang="cs-CZ" sz="2400" spc="-1" strike="noStrike">
                <a:solidFill>
                  <a:srgbClr val="000000"/>
                </a:solidFill>
                <a:latin typeface="Century Schoolbook"/>
              </a:rPr>
              <a:t>watt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Značka: </a:t>
            </a:r>
            <a:r>
              <a:rPr b="1" lang="cs-CZ" sz="2400" spc="-1" strike="noStrike">
                <a:solidFill>
                  <a:srgbClr val="000000"/>
                </a:solidFill>
                <a:latin typeface="Century Schoolbook"/>
              </a:rPr>
              <a:t>W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(pozor, značí se stejně jako práce!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Při výkonu </a:t>
            </a:r>
            <a:r>
              <a:rPr b="1" lang="cs-CZ" sz="2400" spc="-1" strike="noStrike">
                <a:solidFill>
                  <a:srgbClr val="000000"/>
                </a:solidFill>
                <a:latin typeface="Century Schoolbook"/>
              </a:rPr>
              <a:t>1 watt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se vykoná práce </a:t>
            </a:r>
            <a:r>
              <a:rPr b="1" lang="cs-CZ" sz="2400" spc="-1" strike="noStrike">
                <a:solidFill>
                  <a:srgbClr val="000000"/>
                </a:solidFill>
                <a:latin typeface="Century Schoolbook"/>
              </a:rPr>
              <a:t>1 joulu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za </a:t>
            </a:r>
            <a:r>
              <a:rPr b="1" lang="cs-CZ" sz="2400" spc="-1" strike="noStrike">
                <a:solidFill>
                  <a:srgbClr val="000000"/>
                </a:solidFill>
                <a:latin typeface="Century Schoolbook"/>
              </a:rPr>
              <a:t>1 sekundu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Object 2"/>
              <p:cNvSpPr txBox="1"/>
              <p:nvPr/>
            </p:nvSpPr>
            <p:spPr>
              <a:xfrm>
                <a:off x="3143160" y="3714840"/>
                <a:ext cx="2078280" cy="14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2" name="Zástupný symbol pro zápatí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DALŠÍ JEDNOTKY VÝKONU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1 kW = 1 000 W = 10</a:t>
            </a:r>
            <a:r>
              <a:rPr b="0" lang="cs-CZ" sz="2400" spc="-1" strike="noStrike" baseline="30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W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1 MW = 1 000 000 W = 10</a:t>
            </a:r>
            <a:r>
              <a:rPr b="0" lang="cs-CZ" sz="2400" spc="-1" strike="noStrike" baseline="30000">
                <a:solidFill>
                  <a:srgbClr val="000000"/>
                </a:solidFill>
                <a:latin typeface="Century Schoolbook"/>
              </a:rPr>
              <a:t>6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W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5" name="Zástupný symbol pro zápatí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PŘÍKLAD 1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entury Schoolbook"/>
              </a:rPr>
              <a:t>Motor výtahu zdvihl rovnoměrným pohybem svisle vzhůru kabinu o hmotnosti 500 kg do výšky 4 m za dobu 10 s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Century Schoolbook"/>
              </a:rPr>
              <a:t>a) Jakou práci motor vykonal?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Century Schoolbook"/>
              </a:rPr>
              <a:t>b) Jaký byl při tom výkon motoru?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Century Schoolbook"/>
              </a:rPr>
              <a:t>m = 500 kg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Century Schoolbook"/>
              </a:rPr>
              <a:t>s = 4 m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Century Schoolbook"/>
              </a:rPr>
              <a:t>t = 10 s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Century Schoolbook"/>
              </a:rPr>
              <a:t>W = ?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Century Schoolbook"/>
              </a:rPr>
              <a:t>P = ?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entury Schoolbook"/>
              </a:rPr>
              <a:t>-----------------------------------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entury Schoolbook"/>
              </a:rPr>
              <a:t>a)</a:t>
            </a:r>
            <a:r>
              <a:rPr b="0" lang="cs-CZ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Century Schoolbook"/>
              </a:rPr>
              <a:t>F</a:t>
            </a:r>
            <a:r>
              <a:rPr b="0" lang="cs-CZ" sz="1900" spc="-1" strike="noStrike" baseline="-25000">
                <a:solidFill>
                  <a:srgbClr val="000000"/>
                </a:solidFill>
                <a:latin typeface="Century Schoolbook"/>
              </a:rPr>
              <a:t>g</a:t>
            </a:r>
            <a:r>
              <a:rPr b="0" lang="cs-CZ" sz="1900" spc="-1" strike="noStrike">
                <a:solidFill>
                  <a:srgbClr val="000000"/>
                </a:solidFill>
                <a:latin typeface="Century Schoolbook"/>
              </a:rPr>
              <a:t> = m.g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Century Schoolbook"/>
              </a:rPr>
              <a:t>F</a:t>
            </a:r>
            <a:r>
              <a:rPr b="0" lang="cs-CZ" sz="1900" spc="-1" strike="noStrike" baseline="-25000">
                <a:solidFill>
                  <a:srgbClr val="000000"/>
                </a:solidFill>
                <a:latin typeface="Century Schoolbook"/>
              </a:rPr>
              <a:t>g</a:t>
            </a:r>
            <a:r>
              <a:rPr b="0" lang="cs-CZ" sz="1900" spc="-1" strike="noStrike">
                <a:solidFill>
                  <a:srgbClr val="000000"/>
                </a:solidFill>
                <a:latin typeface="Century Schoolbook"/>
              </a:rPr>
              <a:t> = 500 . 10 = 5 000 N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Century Schoolbook"/>
              </a:rPr>
              <a:t>W = F . s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Century Schoolbook"/>
              </a:rPr>
              <a:t>W = 5 000 . 4 = 20 000 J = </a:t>
            </a:r>
            <a:r>
              <a:rPr b="1" lang="cs-CZ" sz="1900" spc="-1" strike="noStrike" u="sng">
                <a:solidFill>
                  <a:srgbClr val="000000"/>
                </a:solidFill>
                <a:uFillTx/>
                <a:latin typeface="Century Schoolbook"/>
              </a:rPr>
              <a:t>20 kJ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entury Schoolbook"/>
              </a:rPr>
              <a:t>b)</a:t>
            </a:r>
            <a:r>
              <a:rPr b="0" lang="cs-CZ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Century Schoolbook"/>
              </a:rPr>
              <a:t>P = W : t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Century Schoolbook"/>
              </a:rPr>
              <a:t>P = 20 000 : 10 = 2 000 W = </a:t>
            </a:r>
            <a:r>
              <a:rPr b="1" lang="cs-CZ" sz="1900" spc="-1" strike="noStrike" u="sng">
                <a:solidFill>
                  <a:srgbClr val="000000"/>
                </a:solidFill>
                <a:uFillTx/>
                <a:latin typeface="Century Schoolbook"/>
              </a:rPr>
              <a:t>2 kW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8" name="Zástupný symbol pro zápatí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4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4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4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4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4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4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PŘÍKLAD 2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Auto jede po vodorovné přímé silnici rovnoměrným pohybem rychlostí 80 km/h. Jaký je při tomto pohybu výkon tahové síly motoru, když proti pohybu automobilu působí třecí síla 1 000 N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F = F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Century Schoolbook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= 1 000 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v = 80 km/h = 22 m/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P = 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--------------------------------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P = F . v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P = 1 000 . 2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P = 22 000 W =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22 kW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1" name="Zástupný symbol pro zápatí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3T09:55:49Z</dcterms:created>
  <dc:creator>Jičínská Ema</dc:creator>
  <dc:description/>
  <dc:language>en-US</dc:language>
  <cp:lastModifiedBy>cevorovaa</cp:lastModifiedBy>
  <dcterms:modified xsi:type="dcterms:W3CDTF">2014-09-03T09:32:04Z</dcterms:modified>
  <cp:revision>31</cp:revision>
  <dc:subject/>
  <dc:title>Snímek 1</dc:title>
</cp:coreProperties>
</file>