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B800-4BD5-4C4A-A1B4-1A76D8087F8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6047-514B-47AF-96E7-E2F11C23FC0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B726-3005-46BA-BA32-E16696258AF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82F-2AF6-4417-94E9-298CCEA8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B98-899D-4CFC-903A-4C6DF0F8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0CA-37D7-4422-A784-8C2C5D18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2FE-79C7-4092-B557-CCE1BD5A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FF88-6613-4577-B12F-6F3EF198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F3F0-F124-41AD-8EA9-5077241C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9BC9-634B-4E63-A8F5-7839F5B4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78A6-C018-4C6B-8289-4B150498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A91C-05C8-4C47-97FD-9AEA65E9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342A-5B52-427E-8596-25AB1FBB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0549-B717-491F-9FB6-7274A80B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B28-AF2E-4E8F-96B5-18214DC5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B3E0-D9A2-46C3-9416-F17D3EBD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10D9-A531-4678-AE7B-802319CB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7E7A-0541-4491-8742-417F72D7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D323-644E-4A54-B44E-919C993B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AAE6-962F-444A-BEED-5E7FEC28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184-2B3F-42D6-A910-9DE4A7BD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390-2997-4759-B997-D05BCFEC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D79-4DA3-4FFA-9D82-1B045506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C00-91AC-424F-A583-E7BA2DD4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273-B3D8-4C64-A2B1-0E35C581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A58-E1A3-469F-B316-533DAFB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E07-F495-454F-965C-2FEBD117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C406-D5BB-4E80-A50E-A2E4D0AD046A}" type="slidenum">
              <a:rPr b="0" lang="cs-CZ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A71B-AB1F-426E-BC80-ABE8C5D25D04}" type="slidenum">
              <a:rPr b="0" lang="cs-CZ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.wikipedia.org/wiki/Elektrick&#253;_oblouk" TargetMode="External"/><Relationship Id="rId2" Type="http://schemas.openxmlformats.org/officeDocument/2006/relationships/hyperlink" Target="http://cs.wikipedia.org/wiki/Obloukov&#233;_sva&#345;ov&#225;n&#237;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3"/>
          <p:cNvSpPr/>
          <p:nvPr/>
        </p:nvSpPr>
        <p:spPr>
          <a:xfrm>
            <a:off x="380880" y="6172200"/>
            <a:ext cx="820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1700280"/>
          <a:ext cx="6837120" cy="143172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116"/>
          <p:cNvSpPr/>
          <p:nvPr/>
        </p:nvSpPr>
        <p:spPr>
          <a:xfrm>
            <a:off x="395280" y="31291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7_SADA5_VYC_9ROC_VEDENI_PROUDU_V_PLYNE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124" name="Obrázek 10" descr=""/>
          <p:cNvPicPr/>
          <p:nvPr/>
        </p:nvPicPr>
        <p:blipFill>
          <a:blip r:embed="rId2"/>
          <a:stretch/>
        </p:blipFill>
        <p:spPr>
          <a:xfrm>
            <a:off x="1476360" y="4365720"/>
            <a:ext cx="615780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Otázky a úlohy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Je vzduch za obvyklých podmínek vodiv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Které el.nabité částice se účastní vedení el.proudu v plynec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Mezi mrakem a zemí je před bouřkou napětí asi 900 kV. Blesk, který přeskočí mezi mrakem a zemí, trvá asi 0,002 s a vzniklý proud dosahuje hodnoty asi 100 kA. Urči, jaká energie se uvolní při průchodu blesku od mraku k ze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Otázky a úlohy - řešení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63280" y="155700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N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Volné ionty a elektro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U = 900kV = 900 000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I = 100kA = 100 000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t = 0,002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E = U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t = 900 000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100 000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0,002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=180 000 000J =180 MJ =50 kW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(1kWh = 3,6 M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Zdroj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Obr. 1:Elektrický oblouk.Wikipedie. </a:t>
            </a:r>
            <a:r>
              <a:rPr b="0" lang="cs-CZ" sz="20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http://cs.wikipedia.org/wiki/Elektrický_oblouk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(accessed Jan 14, 2012)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Obr. 2:Obloukové svařování Wikipedie. </a:t>
            </a:r>
            <a:r>
              <a:rPr b="0" lang="cs-CZ" sz="20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cs.wikipedia.org/wiki/Obloukov%C3%A9_sva%C5%99ov%C3%A1n%C3%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Vedení el.proudu v plynech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30.1. 2012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Kristýna Soud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 látky na téma vedení el.proudu v plynech s otázkami a úlohami k procvičení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9. ročníku k prezentaci nové látky včetně procvičování, kdy žáci po výkladu a pochopení látky odpovídají na zadané otázky a řeší úloh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10360" y="609588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2920" y="2997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99"/>
                </a:solidFill>
                <a:latin typeface="Tahoma"/>
              </a:rPr>
              <a:t>Vedení el.proudu v plynech</a:t>
            </a:r>
            <a:endParaRPr b="1" lang="en-US" sz="5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569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Vzduch – vodič nebo izolant?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Za běžných podmínek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pokojová 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 je vzduch izol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a jistých podmínek se ovšem může stát vzduch vodivým, např.takové podmínky nastávají při vzniku blesk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8820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Vzduch vodič při bouřce - vysvětlení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ed bouřkou vzniká mezi mrakem a zemí silné el.pole, které urychluje nabité částice (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onty) obsažené ve vzduchu, když takto urychlená částice narazí na neutrální molekulu, rozštěpí ji na 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ont a volný 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vzniká spousta nabitých částic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zduch je ionizová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Vzduch vodič při bouřce - vysvětlení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i ionizaci vzduchu v určitém okamžiku nastane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jiskrový výb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 okolí jiskrového výboje se vzduch silně zahřeje, jeho prudké rozpínání způsobí silný hluk -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r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zápatí 5"/>
          <p:cNvSpPr/>
          <p:nvPr/>
        </p:nvSpPr>
        <p:spPr>
          <a:xfrm>
            <a:off x="3348000" y="6629400"/>
            <a:ext cx="54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Další příklady vedení el.proudu ve vzduchu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Elektrický oblou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- (např.sváření ocelových konstrukcí, kolejí,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0360" y="6093000"/>
            <a:ext cx="3444840" cy="53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bloukové svař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4292640"/>
            <a:ext cx="2735280" cy="237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3851280" y="3068640"/>
            <a:ext cx="4176720" cy="2979720"/>
          </a:xfrm>
          <a:prstGeom prst="rect">
            <a:avLst/>
          </a:prstGeom>
          <a:ln w="0">
            <a:noFill/>
          </a:ln>
        </p:spPr>
      </p:pic>
      <p:sp>
        <p:nvSpPr>
          <p:cNvPr id="144" name="Obdélník 8"/>
          <p:cNvSpPr/>
          <p:nvPr/>
        </p:nvSpPr>
        <p:spPr>
          <a:xfrm>
            <a:off x="285840" y="3857760"/>
            <a:ext cx="1143000" cy="357120"/>
          </a:xfrm>
          <a:prstGeom prst="rect">
            <a:avLst/>
          </a:prstGeom>
          <a:solidFill>
            <a:srgbClr val="bfdee3"/>
          </a:solidFill>
          <a:ln w="25560">
            <a:solidFill>
              <a:srgbClr val="8ca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Obr. 1</a:t>
            </a:r>
            <a:r>
              <a:rPr b="0" lang="cs-CZ" sz="1800" spc="-1" strike="noStrike">
                <a:solidFill>
                  <a:srgbClr val="d6dae4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Obdélník 9"/>
          <p:cNvSpPr/>
          <p:nvPr/>
        </p:nvSpPr>
        <p:spPr>
          <a:xfrm>
            <a:off x="6858000" y="2571840"/>
            <a:ext cx="1143000" cy="357120"/>
          </a:xfrm>
          <a:prstGeom prst="rect">
            <a:avLst/>
          </a:prstGeom>
          <a:solidFill>
            <a:srgbClr val="bfdee3"/>
          </a:solidFill>
          <a:ln w="25560">
            <a:solidFill>
              <a:srgbClr val="8ca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Obr. 2</a:t>
            </a:r>
            <a:r>
              <a:rPr b="0" lang="cs-CZ" sz="1800" spc="-1" strike="noStrike">
                <a:solidFill>
                  <a:srgbClr val="d6dae4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Další příklady vedení el.proudu ve vzduchu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lektrický výboj ve zředěných plyne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j.výboj, který vzniká v trubici, ze které byl částečně odčerpán vzdu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o trubice zataveny dvě elektrody,které jsou připojeny ke zdroji vysokého napět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 trubici vznikne světélkující el.výb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aždý plyn světélkuje jinou barv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Shrnutí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íklady vedení el.proudu v plyne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iskrový el.výb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l.oblou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l.výboj ve zředěných plyne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l.proud v plynech je tvořen usměrněným pohybem volných iontů a elektron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vorovaa</cp:lastModifiedBy>
  <dcterms:modified xsi:type="dcterms:W3CDTF">2014-09-03T09:34:44Z</dcterms:modified>
  <cp:revision>19</cp:revision>
  <dc:subject/>
  <dc:title>PowerPoint Presentation</dc:title>
</cp:coreProperties>
</file>