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3FB-04B7-4F92-AADE-D34758446A1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592F-5E3E-4C78-BC12-1E66F6B9CC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0F3B-4BD4-4E8B-861E-5D45875FFFF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1BF-0674-498C-A34C-E0606D0E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822-2140-42E7-8CE4-373AABF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452-2F32-4E98-8CBB-921E247D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406-C0F8-44D2-A5D1-E8A53A5E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2C2A-4865-4385-A6DA-1AE1CA12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CE43-2FA2-47CB-A7A4-26D99E7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365B-65D7-460D-B827-9E5CC60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6C2-FAFF-4CAA-AE19-E4B8E0D2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FA52-3719-442F-BBCD-F9D706F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C04D-BEB5-4BD3-AD49-74C0B39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508-6C73-47D1-99A8-95670B3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FAB-9D7F-4891-8F88-2405388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3FD1-4D20-4AF5-8E24-3717267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6595-AA4D-4959-9FD6-99FA4A4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B791-1CE6-4F25-9AFC-5B3A1E3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9DF-B655-43B0-A7D7-8F9F9FE9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4A9A-86B4-48D5-BE3D-1AD93C21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886-8B93-4A32-BBD4-980B7C9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CAA-CA9C-401B-88B4-9B57059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ACF-A5E0-4F3F-93A4-64C62C8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B77-680E-41AC-BF50-70501A6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B60-C040-465F-8ED2-F13D952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700-9615-4227-921C-07C82DE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77D-9019-451F-A210-0254E56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3F24-0565-4C5E-8E00-1315AA346F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B0B-F119-41BB-A92C-12F2F26FB9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9_SADA5_VYC_9ROC_POLOVODICOVA_DI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13" name="Obrázek 10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61578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mocí grafu voltampérové charakteristiky polovodičové diody vypočítej odpor diody v propustné směru, prochází-li diodou proud 250 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635280" y="2133720"/>
          <a:ext cx="432144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432144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Polovodičová dio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.2. 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polovodičová dioda a jeho užití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 a řeší úlo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 Black"/>
              </a:rPr>
              <a:t>Polovodičová diod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Polovodičové součástk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rmistor … nezávisí na polaritě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torezistor … nezávisí na polaritě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lovodičová dio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… závisí na polaritě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ystal polovodiče obsahuje jak polovodič P tak polovodič 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ozhraní mezi těmito polovodiči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chod 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Polovodičová dioda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ástka, která obsahuje přechod 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á dva vývody, jeden spojen s oblastí typu P (ten se nazývá anoda), druhý spojen s oblastí typu N (ten se nazývá ka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ematická značka pol.di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203640" y="4581360"/>
          <a:ext cx="446544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581360"/>
                    <a:ext cx="44654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Zapojení diody v el.obvodu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jení v propustném smě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zn. proud obvodem prochází, dioda propouští el.p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rovka sví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403280" y="3645000"/>
          <a:ext cx="367344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45000"/>
                    <a:ext cx="367344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Zapojení diody v el.obvodu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jení v závěrném smě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zn. proud obvodem neprochází, dioda  nepropouští el.p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rovka nesví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16000" y="3500280"/>
          <a:ext cx="33829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500280"/>
                    <a:ext cx="3382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Black"/>
              </a:rPr>
              <a:t>Voltampérová charakteristika polovodič.diody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ické znázornění závislosti proudu na napě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268360" y="2244600"/>
          <a:ext cx="475308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44600"/>
                    <a:ext cx="47530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zápatí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Otázky a úloh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80074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yjmenuj jaké znáš polovodičové součástky a stručně charakterizuj každou z n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č se nemusí do obvodu zapojovat rezistor, použijeme-li místo ampérmetru žárov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kresli schéma obvodu s baterií, spínačem, žárovkou a diodou tak, aby dioda byla zapojena v propustném směr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5:21Z</dcterms:modified>
  <cp:revision>18</cp:revision>
  <dc:subject/>
  <dc:title>PowerPoint Presentation</dc:title>
</cp:coreProperties>
</file>