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23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2. 5.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99C8A-DC2D-4F49-A681-FD0D5CDC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8A566-C945-47CA-A1C1-43385428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3B83C-0027-420E-A4A9-6211A55A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D236A-E727-438A-8D1D-FA766CB0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98FAD-30A7-4E01-8DD4-3B4AF531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FBAE0-467D-4DD7-8256-084BB50C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81FB5-F5C8-48D9-AA6A-DA44FE4E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21570-7966-4756-93C3-1A10DA8C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58D72-99E8-4C6D-BC3D-4F5EDA85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D1AC8-1EFD-4760-BAD0-93CAF4F3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3DCED-E6EA-45A4-AA7A-46910B82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98754-1CA5-4A3D-AF95-6915A31A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198F44-233E-4AC7-90AB-BFF9F5DB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7CFF56-3BE2-4C1A-8CDD-57EDA68A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C9C099-885A-4444-AFA2-1F18F8DB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709BC1-CCDC-4F8E-ADF5-00EC9851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B2F464-F262-4B82-B52C-55E25F62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7368F3-4645-405F-8BE4-0D97F6EC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A618DB-8412-4E99-9DCB-1E644660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530374-A541-453A-A5ED-1496D6A3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BC43C5-4F3E-40F1-8FD5-C051DB36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DB550E-2D39-4F0B-A275-7D60702F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BC59E7-57A4-4946-A684-7F5DA105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833F4C-44A3-4801-BE4D-CD875044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B8108-9783-4F93-B831-29B0DB1F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45E4D-9891-4B28-A220-446C4190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4BCFC-03C8-45BD-8094-039C3ED4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6CADB-EFE5-4AE8-B3E8-06514AE8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BB5DC-6ECB-46F2-B498-3B2C83F8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3E29-3DAD-41EB-AEA8-C1EF2993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0B55-B7AF-43F9-B20C-5FB80DF7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EAE1F-0D92-41E0-9363-BFE8092C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E2B73-22DF-4A1B-A19C-CFABB57D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9AF0D-9F62-46D5-9CB9-8B886EA8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678E5-E3FA-489B-A952-D4BC426F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62A2D-F3A2-4D37-ACD7-5B137B97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3A0282-3CED-4D36-B32D-7F078735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FCEE9F-F8F3-4E49-8FD5-C5A1AA7A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3E58AB-7A69-4386-9841-81FB3154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967382-969E-4599-9BFC-F222C5F3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228B96-C575-4782-B0AA-E5E4F8B9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85B2F4-2580-4C05-A0DB-4513B5E8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13568D-BA0A-4635-93BE-F33C88C9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7ECFED-FA9B-42E6-8D29-37166517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2D4C4A-93AB-4E56-B919-6E7A148E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5D0729-B38C-41E3-B8C2-CE0CE617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6F452B-E731-456D-AD7A-87D2F322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431855-CD7D-4BAE-BD09-C00D6BA4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FCC6B-3F39-43C4-908A-0289587A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2DFE3-2350-4456-8A42-9D7B911F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1EA9F-7944-4810-A796-86C33C29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C7066-DFD3-418A-AA61-2D030E20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E7488-413C-491B-98E3-23AE9C38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46892-4CF0-4BB6-B736-A24C93A3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046D3-795C-4EE6-BC70-6E3C8E72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6EFE5-2C04-469E-A308-C6013C9C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94C7E-C5A6-41BA-A8A9-3D10BBB6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BC987-0D36-4AA8-BA21-7DB6C5E4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6886D-7A99-4496-A03B-1F77C329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24119-2AC3-4E56-A13C-79F5C568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3C640-2C3F-41E4-B68A-2F7E55F7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63241-8C19-4450-AC90-DE061A89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6AFFA-5F2A-40AD-97F9-AC81D243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D59B5-F7F4-4934-9A78-9B30F19B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80D34-FAFE-4FB4-BC07-34AFC478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1D287-E773-4C89-AC14-28E0169D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2882B-FAC6-48B7-9541-61ABF7D6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7E3DE-2D51-486D-A3FB-172FEB26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A02A9-CCC2-4552-83DE-838581FC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DA716-8420-4A07-8E5A-9C5691FE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A2923-D8FB-4964-A421-88B2867A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2FD9A-CF98-4F0D-914C-A52624A4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A28A3-E3CE-439F-AA3B-29670E79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FB2B0-8C77-4A3B-AAD0-5967AFB6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CD8BD-CCD1-4CF3-B7FE-CB57012D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126C3-8476-486C-A96F-85F069AA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8C0D8-F831-425B-B117-E1D0E84A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EB6DA-A145-485C-A7F8-4F4418DC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39148-E15B-41B6-8874-B7714B95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89DA6-028C-4468-99F0-55FA8C16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0975B-EDBF-422D-B6A4-E39ED100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B1641-2C16-443B-BA86-181B8413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A7C8A-8901-49EE-BE4F-BD13DE61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7DDC6-9BB4-4AC0-AC06-80E3B79C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23700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CFAC-EFDD-44C6-8DD0-06BA2808CD5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6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7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201D-7AE1-449D-A41B-B441F27CB0D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FE76-B57D-48F5-8FB1-AC262823758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3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6FE4-7BA8-4D5A-BBBC-21AEA60BD1E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2476-FE14-4DAC-ACF2-8EB37579759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D08E-0B38-429A-B9E7-7D0E4A351B2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ftr" idx="1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2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23A8-A193-452E-8B56-965A60848E8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ftr" idx="2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s.wikipedia.org/wiki/Maratonsk&#253;_b&#283;h" TargetMode="External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Zástupný symbol pro zápatí 3"/>
          <p:cNvSpPr/>
          <p:nvPr/>
        </p:nvSpPr>
        <p:spPr>
          <a:xfrm>
            <a:off x="468360" y="6237360"/>
            <a:ext cx="820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0" y="66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8"/>
          <p:cNvSpPr/>
          <p:nvPr/>
        </p:nvSpPr>
        <p:spPr>
          <a:xfrm>
            <a:off x="468360" y="30114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9"/>
          <p:cNvSpPr/>
          <p:nvPr/>
        </p:nvSpPr>
        <p:spPr>
          <a:xfrm>
            <a:off x="0" y="39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4"/>
          <p:cNvSpPr/>
          <p:nvPr/>
        </p:nvSpPr>
        <p:spPr>
          <a:xfrm>
            <a:off x="611280" y="1121040"/>
            <a:ext cx="69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ento materiál byl vytvořen v rámci projektu  Operačního programu Vzdělávání pro konkurenceschopno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611280" y="1700280"/>
          <a:ext cx="6837120" cy="1371600"/>
        </p:xfrm>
        <a:graphic>
          <a:graphicData uri="http://schemas.openxmlformats.org/drawingml/2006/table">
            <a:tbl>
              <a:tblPr/>
              <a:tblGrid>
                <a:gridCol w="2243160"/>
                <a:gridCol w="459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jekt MŠMT Č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U PENÍZE ŠKOLÁ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Z.1.07/1.4.00/21.28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projektu ško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še škola, ZŠ Pardubice, Benešovo náměstí 5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íčová aktivita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III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ovace a zkvalitnění výuky prostřednictvím I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Rectangle 116"/>
          <p:cNvSpPr/>
          <p:nvPr/>
        </p:nvSpPr>
        <p:spPr>
          <a:xfrm>
            <a:off x="395280" y="3114720"/>
            <a:ext cx="849780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Šablona č. III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dentifikátor: VY_32_INOVACE_02_SADA5_KBS_7ROC_RYCHL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last: Člověk a přír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or: Fyzi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obrázek 1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403" name="Obrázek 10" descr=""/>
          <p:cNvPicPr/>
          <p:nvPr/>
        </p:nvPicPr>
        <p:blipFill>
          <a:blip r:embed="rId2"/>
          <a:stretch/>
        </p:blipFill>
        <p:spPr>
          <a:xfrm>
            <a:off x="1403280" y="4365720"/>
            <a:ext cx="615960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PŘÍKLAD 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větový rekord z roku 2011 v maratonu drží keňský běžec Patrick Makau s celkovým časem 2:03:38, neboli 2 h 3 min 38 s. Délka maratonského běhu je 42,195 km. Jakou rychlostí proběhl tento úsek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 = 42,195 k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t = 2 h 3 min 38 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 = 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---------------------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5"/>
              <p:cNvSpPr txBox="1"/>
              <p:nvPr/>
            </p:nvSpPr>
            <p:spPr>
              <a:xfrm>
                <a:off x="857160" y="4857840"/>
                <a:ext cx="7495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6"/>
              <p:cNvSpPr txBox="1"/>
              <p:nvPr/>
            </p:nvSpPr>
            <p:spPr>
              <a:xfrm>
                <a:off x="657360" y="5715000"/>
                <a:ext cx="2701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19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1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,7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PŘÍKLAD 3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ychlost zvuku ve vzduchu je 340 m/s. Můžeme letadlo letící maximální rychlostí 1200 km/h nazvat nadzvukové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340 m/s = 1224 km/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200 km/h = 333 m/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DROJE A LITERATU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OLÁŘOVÁ, Růžena; BOHUNĚK, Jiří.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Fyzika pro 7. ročník základní školy. 2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. vyd. Praha: Prometheus, 2003. ISBN 80-7196-265-1. Kapitola 1.4, s. 20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BOHUNĚK, Jiří.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Sbírka úloh z fyziky pro ZŠ, 1. díl.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2. vyd. Praha: Prometheus, 1992. ISBN 80-85849-06-2. Kapitola 3, s. 40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WIKIPEDIE. OTEVŘENÁ ENCYKLOPEDIE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[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nlin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]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2011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[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cit 2011-09-25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]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Dostupné z: </a:t>
            </a:r>
            <a:r>
              <a:rPr b="0" lang="cs-CZ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cs.wikipedia.org/wiki/Maratonsk%C3%BD_b%C4%9B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Zástupný symbol pro zápatí 2"/>
          <p:cNvSpPr/>
          <p:nvPr/>
        </p:nvSpPr>
        <p:spPr>
          <a:xfrm>
            <a:off x="468360" y="6237360"/>
            <a:ext cx="820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ázev: Výkon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atum: 27.9.2011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utor: Mgr. Darina Kubášková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ručná anotace: Výklad nové látky na téma rychlost rovnoměrného pohybu s řešením příkladů.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etodické zhodnocení: Určeno pro žáky 7. ročníku k prezentaci nové látky včetně procvičování, kdy žáci s pomocí učitele a poté samostatně řeší fyzikální úloh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RYCHLOST ROVNOMĚRNÉHO POHYB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Zástupný symbol pro zápatí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RYCHLOST ROVNOMĚRNÉHO POHYB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Zástupný symbol pro zápatí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85840" y="1857240"/>
          <a:ext cx="7929360" cy="2286000"/>
        </p:xfrm>
        <a:graphic>
          <a:graphicData uri="http://schemas.openxmlformats.org/drawingml/2006/table">
            <a:tbl>
              <a:tblPr/>
              <a:tblGrid>
                <a:gridCol w="1977840"/>
                <a:gridCol w="1814760"/>
                <a:gridCol w="1812600"/>
                <a:gridCol w="2324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Vozid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ráha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oba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ráha za 1 sekun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otocyk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obní automob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ra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RYCHLOST ROVNOMĚRNÉHO POHYB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Fyzikální velič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načka: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elikost rychlosti určíme, jestliže dělíme dráhu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dobou pohybu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Zástupný symbol pro zápatí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7"/>
              <p:cNvSpPr txBox="1"/>
              <p:nvPr/>
            </p:nvSpPr>
            <p:spPr>
              <a:xfrm>
                <a:off x="3429000" y="3643200"/>
                <a:ext cx="132084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JEDNOTKY RYCHLOSTI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etr za sekund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ilometr za hodin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Zástupný symbol pro zápatí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6"/>
              <p:cNvSpPr txBox="1"/>
              <p:nvPr/>
            </p:nvSpPr>
            <p:spPr>
              <a:xfrm>
                <a:off x="857160" y="1428840"/>
                <a:ext cx="4492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7"/>
              <p:cNvSpPr txBox="1"/>
              <p:nvPr/>
            </p:nvSpPr>
            <p:spPr>
              <a:xfrm>
                <a:off x="785880" y="3571920"/>
                <a:ext cx="5983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PŘEVODY JEDNOTEK RYCHLOSTI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Zástupný symbol pro obsah 3"/>
              <p:cNvSpPr txBox="1"/>
              <p:nvPr/>
            </p:nvSpPr>
            <p:spPr>
              <a:xfrm>
                <a:off x="1500120" y="1785960"/>
                <a:ext cx="542916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0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,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8"/>
              <p:cNvSpPr txBox="1"/>
              <p:nvPr/>
            </p:nvSpPr>
            <p:spPr>
              <a:xfrm>
                <a:off x="3000240" y="3786120"/>
                <a:ext cx="301320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,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PROCVIČOVÁNÍ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Automobil jede rychlostí 8 m/s. Kolik je to km/h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Automobil jede rychlostí 54 km/h. Kolik je to m/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PŘÍKLAD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laštovka uletěla při cestě za teplem rovnoměrným pohybem 230 m za 10 s. Vypočítej rychlost jejího letu v jednotkách m/s a km/h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 = 230 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t = 10 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 = ? m/s, km/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---------------------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5"/>
              <p:cNvSpPr txBox="1"/>
              <p:nvPr/>
            </p:nvSpPr>
            <p:spPr>
              <a:xfrm>
                <a:off x="857160" y="4500720"/>
                <a:ext cx="74952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6"/>
              <p:cNvSpPr txBox="1"/>
              <p:nvPr/>
            </p:nvSpPr>
            <p:spPr>
              <a:xfrm>
                <a:off x="857160" y="5357880"/>
                <a:ext cx="23004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7"/>
              <p:cNvSpPr txBox="1"/>
              <p:nvPr/>
            </p:nvSpPr>
            <p:spPr>
              <a:xfrm>
                <a:off x="857160" y="6286680"/>
                <a:ext cx="160488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9:55:49Z</dcterms:created>
  <dc:creator>Jičínská Ema</dc:creator>
  <dc:description/>
  <dc:language>en-US</dc:language>
  <cp:lastModifiedBy>cevorovaa</cp:lastModifiedBy>
  <dcterms:modified xsi:type="dcterms:W3CDTF">2014-09-03T09:32:30Z</dcterms:modified>
  <cp:revision>39</cp:revision>
  <dc:subject/>
  <dc:title>Snímek 1</dc:title>
</cp:coreProperties>
</file>