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E543-ED30-4881-8663-8A3E427D7A10}" type="datetime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6F6-AC45-4CDF-9122-8EB01A74B69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44F-96B0-4536-8146-AECE3FF6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BE1-A6BA-424A-9E89-3DCB4287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200A4-590F-4F0C-A396-948FFDA2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88B7-9947-48A6-8A4B-AE05DC7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B0108-543D-480E-8111-C4FF0BE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5B0C3-D017-4610-BC16-55E59283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83CAE-BD39-40E2-B692-0B90A5E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689CE-4CD2-4199-89D2-D40DF37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399D9-19B9-4DB4-B8DE-17826A2A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8AB3-F7B3-4CF0-B9D1-0BB3561A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30473-0018-4FC8-9A2F-DE43FBE5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85E-61B1-4465-B556-FD852835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E5B-6A05-4C35-86DC-5A4460A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BC78-D09D-49BD-8AF7-C9F55365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2EB3-6938-4067-A2EE-FF69B00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935-2C09-4B96-9C6C-5F0C5AD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7CDC-3A89-4DA3-9D74-C7087F5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8CE-D8D0-4ADB-8ECE-1E01732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FF53-16D8-45E1-946B-57936F7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FE2-BA32-48CB-82D9-1093FFF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FE5-C684-42C8-92D9-90BE823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152-D87E-4BCA-A4B7-1B6428E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EFE3-A272-49FA-86B5-7D927F2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6A28-EC06-4FD3-8D9E-124DAFB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920C-3D8F-4169-9359-203E36E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CC9-F7BD-407E-B4C0-B4028082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4A59-013D-4960-B140-367623B9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5671-60A0-4552-B048-3C940C3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87A3-9977-425D-9EC0-7AC313B4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3801-A413-4628-ADB7-4CE2D61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05F1-DF3B-4210-9096-DEE4BDF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85C-6BE1-4C24-9A5C-E7CBFC5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256C-3E77-41DF-B0D8-1E319A1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1062-3D68-44F6-8FED-37AACC8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F523-1EE5-495C-A5FD-2F5ADB8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6115-7CAC-4739-900D-FC40CFC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AE53-B373-424F-8016-B37A714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83EC-CF77-42E4-BF84-7ACE4BB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9D4E-0939-4B5C-B3D9-C190C63F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2D98-85E7-4F03-AEE8-5318AB8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E45A-BE61-4E16-894C-4D963C63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9680-69C1-4F11-9809-9EFD726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437-0F3A-4550-8EEF-B81EAE1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6B9E-6ECA-4246-A3B6-633776C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5794-4C38-4B33-98B5-402EF30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5D74-CD36-4C11-B04F-EEDC1ABD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D487-4E83-4032-8797-1E82EC1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C2E7-3437-47AA-8A1D-DE781D9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FA47-24F0-4922-AF0D-7E0CF8E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77B3-9A82-4095-BB25-A89B437D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B2B9-11F4-4BF7-8EDE-4D1C128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6330-6557-453C-87F3-FEB99DA7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F37E-4484-43C3-A504-F3332465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B37-4719-4A51-8D9A-D1B551F4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C5E9-47A9-49B0-9BB2-1A878921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A755-91DA-4C8F-B765-7AA9948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EE475-233E-4D5B-B22D-3392821D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10281-FF0D-46E9-BCCE-9137A5B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72FA0-9D00-4B6D-B670-11265FE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4F24-6A15-4A54-BD81-43E353D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AA8E-7B67-4DF8-B62A-D0ECCD5C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5F74-F221-40E4-9760-3569759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F781-19F7-4963-8DA8-1A1B6BF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B881-F602-4126-BB1E-58EB67A4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1C0-B882-4957-AB3F-C45CE3F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988E-8E27-4465-86F8-EC17323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806E-F484-4E25-9E52-269A518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A3D32-72B4-40C0-BC78-7CA4C810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F8C27-603A-483C-AFB8-8089121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CC51-A4D0-46AB-9FAD-A0DB582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D515-DEB7-4A28-B314-79A9076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2872-4A6E-4E46-89F4-576279FF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4BAA-8321-4C53-A143-2AFCD21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7D03-5832-4D98-B94A-14BF776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A0E2-83A0-40FB-A9EF-F3B730E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077-8835-4D2D-9C23-876BAD2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2D6F-85A8-4B38-A1FD-62D1E6F0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7099-CF5B-4684-A5A0-7412C955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C5E2-B0FA-410E-B784-28B76891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7CEE-3197-4DE4-82D0-622BF4EF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58B5-C238-4316-85B3-C1662B4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02DF-F716-44C2-B6EC-EFEF9FE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9954-61E1-4854-9D1D-A301E98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A795-5B5E-4831-BACA-8561762C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ED08A-CA28-47E9-8D0F-04469C2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9551C-9C84-4D5D-81D2-7171B0B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6C6-12D7-47CA-ADDB-8FE541C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37ED-706C-4829-81E1-B725FED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739A-0223-4686-9807-418E1A4C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1889C-5C96-4804-87EE-177DE33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BC1E-761E-4CF1-8E9D-9B57EF4C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BBEE-755C-4C61-BA6D-96AB3D8E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26B58-82CE-4DAF-8468-0ECD58D2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2C07-C40C-4390-A242-01AA38A5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AD3A6-A522-473F-AA96-3845968B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71F1-3400-46DD-816C-AB92A019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0CD1-62A3-4B3E-B6CF-8961644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1A9-4527-4C93-9F7E-0DB52D9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590B-6888-49CF-A054-2AE52E4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74BF-162B-4A1E-8C38-2B42457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BA60-8A6C-42EE-AE21-3F2AB83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3401-DE7B-41C8-90A0-73B9F10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5935-F8B8-461F-8B8E-5344AC9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A593-7A0C-4D23-A47F-597BD5E6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C887B-A188-484F-B306-066A78CA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37C92-79DC-4673-8C1B-A7185FFC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D2981-0C65-43D0-B72B-96A3938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7AE67-3E74-4665-BF33-5DBA70C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8F02-63CC-405B-9169-AB7B5B2856FE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8D1F-38D3-429B-B36A-8D5A8F11382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338-9874-4036-8444-6869EA05E779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6E3-5EF6-41B6-97B8-BAB288973A68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B1B5-E4AF-4E30-A8BB-0DEDB128D7F3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4A6B-819F-4B7B-B6C9-9F7B1B8D8953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1BC-85EB-41BB-BFC8-2C423C815EDD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E4D-3AE5-4343-9476-7DAF1F97D617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DCD-89CC-4B2D-BD62-FB29F76B9689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DD9-5662-4863-AD26-08B8361A9D30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4273-0A6E-443D-A33B-535F208A943A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0CA-0A84-4CFA-91CC-EFAD1B01D32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81A4-83F7-4AEE-BB88-A35EE0273C91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7CD-CD2F-43CB-9E46-FC72878E22C5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11B6-BB50-47A7-994D-FB717DF3E4E3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279-F7CE-4F00-9600-842A003EC1F1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5657-C172-4756-AD75-1BD7F13F4290}" type="datetime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2E98-6716-4B9D-89D7-99C9CEFB292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4_SADA5_VYC_9ROC_STRIDAVY_PR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14" name="Obrázek 10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1596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4e3b30"/>
                </a:solidFill>
                <a:latin typeface="Franklin Gothic Medium"/>
              </a:rPr>
              <a:t>Otázky a úkol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ysvětli rozdíl mezi stejnosměrným a střídavým proude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Co je to perioda střídavého proudu a jak ji značím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Napiš vztah, který platí mezi periodou a frekvencí stř.proud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Co je to alternátor a z jakých základních částí se skládá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Frekvence střídavého proudu je 1500 Hz.    Vypočítej jeho period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Perioda střídavého proudu je 0,004 s. Vypočítej frekvenc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Znáš nějaké použití dynam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Na následujícím obrázku je zaznamenán časový průběh stř.proud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Kolikrát dosáhne tento stř.proud maximální hodnoty během 8 s bez ohledu na svůj smě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Urči z obrázku, jaká je perioda tohoto stř.proud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ypočítej frekvenci tohoto stř.proud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4" descr="ukol3"/>
          <p:cNvPicPr/>
          <p:nvPr/>
        </p:nvPicPr>
        <p:blipFill>
          <a:blip r:embed="rId1"/>
          <a:stretch/>
        </p:blipFill>
        <p:spPr>
          <a:xfrm>
            <a:off x="1692360" y="2852640"/>
            <a:ext cx="51847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zev: Střídavý proud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Datum:   23.1. 2012</a:t>
            </a:r>
            <a:r>
              <a:rPr b="1" lang="cs-CZ" sz="1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Stručn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 anotace: Výklad nov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 l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tky na t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ma střídavý proud a jeho užití s otázkami a příklady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Metodick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 zhodnocen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: Určeno pro ž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ky 9. ročn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ku k prezentaci nov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 l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tky včetně procvičov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, počítání příkladů k procvičení dané problematiky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ástupný symbol pro zápatí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Nadpis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Vznik střídavého proud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14200" y="2071800"/>
            <a:ext cx="86868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osud používání např. ploché baterie jako zdroje el.napětí – proud má v obvodu stále stejný směr …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stejnosměrný el.proud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 pokusu viz. el-mg.indukce (přibližování a oddalování magnetu k cívce) proud měnil (střídal) svůj směr …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střídavý el.prou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4360" y="60210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grafem střídavého proudu…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sinusoi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5" descr="ukol2"/>
          <p:cNvPicPr/>
          <p:nvPr/>
        </p:nvPicPr>
        <p:blipFill>
          <a:blip r:embed="rId2"/>
          <a:stretch/>
        </p:blipFill>
        <p:spPr>
          <a:xfrm>
            <a:off x="1258920" y="1341360"/>
            <a:ext cx="6477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14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Perioda střídavého proudu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 doba, za kterou se průběh střídavého   proudu opakuj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 značíme 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 jednotka: 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… sekun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Frekvence (kmitočet) stříd.prou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 počet period střídavého proudu za jednu sekun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 značíme 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atí vztah: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500280" y="3786120"/>
                <a:ext cx="21164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ALTERNÁTOR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Stroje na výrobu střídavého proudu na základě elektromagnetické indukce se nazývají </a:t>
            </a: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alterná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alternátory v elektrárnách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stator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 - nehybné cívk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rotor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- rotorem otáčí turbína, poháněná horkou párou (v tepelných či jaderných elektrárnách), nebo proudící vodou (ve vodních elektrárnách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Zástupný symbol pro zápatí 18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Autorem materiálu a všech jeho částí, není-li uvedeno jinak, je Mgr. Kristýna Soud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e3b30"/>
                </a:solidFill>
                <a:latin typeface="Franklin Gothic Medium"/>
              </a:rPr>
              <a:t>ALTERNÁTOR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86868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 alternátorech se přeměňuje pohybová energie rotoru na elektrickou energii, kterou odebíráme z cívek stator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3:34Z</dcterms:modified>
  <cp:revision>19</cp:revision>
  <dc:subject/>
  <dc:title>Střídavý proud</dc:title>
</cp:coreProperties>
</file>