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                                  Inovace ve vzdělávání na naší škole ZŠ Studán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dt" idx="23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2. 5.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                                  Inovace ve vzdělávání na naší škole ZŠ Studán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14E34-AC2C-4A65-A328-4215C71A4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BE0A16-6EFD-4D0F-8848-49669CF8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05B1F-09B2-4AD8-A21B-1CA06917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4B7C12-5462-42A9-A1FD-A41DB043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464E67-8233-4B81-BF00-0E67E522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F4472-8FB5-4C21-9CB0-6FDB7C54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3EE32-646C-494E-A180-F65A1F94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0C1EA-CC3A-44C1-B8FB-C73ECE2B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DA5F9-1694-456B-A256-FF124207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AE2DF-78A0-4E7C-92D1-784E2212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089D7-E6DF-461B-A7E7-57B10E9E8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BCC6D-5425-4B9C-9542-C1C95DF17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B01A4D-D466-47A3-93B5-39D3A5171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4C6A77-2BD6-497C-8919-4C8635DA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CEA90B-C33F-4947-AD8F-E904CB55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23D872-7D50-4398-83D9-75DE86D2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CE1286-75B4-480D-A537-F5A81CE7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FE5740-16A2-48A6-82D3-6D8C66B4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041C78-7B55-4171-8CC0-E8762585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6AC9B4-E150-4CCB-A607-29F09541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B2562C-C4F5-4114-A349-83F08210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960D11-F62B-4F72-90AE-F5BAFF6C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9436CD-752C-4A91-B93D-07F509684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08C58E-D111-4092-90C3-BDC7448CA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92ED1-3185-4175-B145-D5DBF39A3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E8B9E-4F32-40A4-A572-CA98BAA8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5FBB0-E2C1-4789-AAF9-00884E19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F78D6-9BEE-47AD-8CD9-29EE6E52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511B9-C018-491C-8A40-15DAA8B8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E2B43-5AEE-4414-83C2-09FE0DF4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3B2CF-054B-49ED-970B-4159245A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223A3-9125-46DE-9A17-6C4FC956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11B9C-F8D8-4EEC-9E97-6149BB91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5D0C5-4A8A-4178-9F56-11AC0BF9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922DD-6B0D-4E4E-8DFB-6D34ADC0A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D4A35-445C-42EE-98F8-745D982D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3C4037-B91C-4055-8BA8-BFA5FD6FC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665392-09AF-44F2-82CC-52F7AE61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B77A06-4CF8-4F3C-97AC-2A499594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13DEF7-01CC-4009-98DD-B86D0FD0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DE3AC9-3C92-4B23-A3E4-BEE5E9A2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BEEF8D-31DC-46BE-AE83-6ADF3C45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B1CBD3-9D21-4118-9DC2-4A9B2477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6294E1-DC38-41F3-9735-CC7FD28F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FAB1E4-4DF7-48C3-993E-862E3B12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33A0AA-BCBD-4472-9AF4-D99794E9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07BDD8-5765-48B8-85C7-7B30EAC6B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294066-136A-438D-8F7E-06AE629F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D1ECA-15FF-43C0-8E49-884A7520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ECFC0-B69E-42D0-8704-1CCF8053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4466A-744D-4CF0-A595-6CDAC31E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1CF8F-5B2A-4416-BADA-E214EE2A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CAF1D-EDE4-48A0-B77A-31817EA9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C845C-687B-4B30-A69E-07493111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BE846-F244-4CDC-8455-7AA7606B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940EB-3109-47BC-A611-60859A0C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26252-2A67-416E-BF01-05383D86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5B141-ACE8-4A61-8AF7-D6E49C92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26AB3-54B0-4823-A660-09E36642E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AAA29-CA32-4A5A-9CF0-5BDD24E94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86DD9-BC77-4158-AB68-435A32A39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48C40-E036-4FE1-8A9B-6EC008D8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7F769-F864-4C42-AA27-160AEDCB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7E4E3-B41D-4012-A47C-3C2C3EBE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AD8E0-3291-4A7B-8C7A-4FFBE5B0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2B666-0922-4784-999D-CBBDADE6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12564-FB66-4728-80DC-3A2E6991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8C781-EB8A-4D60-8FCA-1D24105C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9CC69-7F65-481A-8D6C-7EC189B9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DF4B7-339B-49E9-851F-F58713BE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C8D0C-AEC0-4F3C-8044-4EAAD2EA8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02500-7BB1-4819-B050-ECC5BA703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0166F-A112-48E2-9197-DAB63E8F6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CE78D-3081-41A0-A02F-37ACB542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1E13C-7CA5-47DB-B844-E3031048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8B260-937D-4074-8686-7F346EBF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134C9-AA81-45C4-B99F-94488467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DD3D0-A834-4627-AD6B-7BCE3090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3098F-2F99-45AC-A214-6D5A67D7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DF435-657E-4A8F-997C-FCE35CEC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1F94E-9FCD-4EC4-8E5F-B043B97E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FFEA5-0CE5-43C3-87A9-3E8A3CEE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9356D-CDF0-4555-B9B8-FBA615998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FF13F-FAC4-4DBF-9C8E-238AA641C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360" y="6237000"/>
            <a:ext cx="820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A92D-02B4-408B-9A8E-AFA6420A8D7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římá spojovací čára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Elipsa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lipsa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lipsa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5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6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7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6CFA-9166-4702-B772-52E8713D766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C40F-6F87-4FEB-BC71-8896AF87B05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1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Elipsa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lipsa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lipsa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Elipsa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Elipsa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1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2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39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39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3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AD13-D292-4BEC-BB77-A530A674FA1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1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ACCA-BC43-4757-9EDA-74893279514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1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římá spojovací čára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římá spojovací čára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římá spojovací čár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římá spojovací čár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Elipsa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sldNum" idx="1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8D9C-84B5-4041-8171-05F37D56894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ftr" idx="1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Elipsa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římá spojovací čára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bdélník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římá spojovací čára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římá spojovací čára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římá spojovací čára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2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2FE0-BB2B-423F-991D-D3D853D7C18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ftr" idx="2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Zástupný symbol pro zápatí 3"/>
          <p:cNvSpPr/>
          <p:nvPr/>
        </p:nvSpPr>
        <p:spPr>
          <a:xfrm>
            <a:off x="468360" y="6237360"/>
            <a:ext cx="8207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0" y="66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58"/>
          <p:cNvSpPr/>
          <p:nvPr/>
        </p:nvSpPr>
        <p:spPr>
          <a:xfrm>
            <a:off x="468360" y="301140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59"/>
          <p:cNvSpPr/>
          <p:nvPr/>
        </p:nvSpPr>
        <p:spPr>
          <a:xfrm>
            <a:off x="0" y="39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4"/>
          <p:cNvSpPr/>
          <p:nvPr/>
        </p:nvSpPr>
        <p:spPr>
          <a:xfrm>
            <a:off x="611280" y="1121040"/>
            <a:ext cx="691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Tento materiál byl vytvořen v rámci projektu  Operačního programu Vzdělávání pro konkurenceschopno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611280" y="1700280"/>
          <a:ext cx="6837120" cy="1279440"/>
        </p:xfrm>
        <a:graphic>
          <a:graphicData uri="http://schemas.openxmlformats.org/drawingml/2006/table">
            <a:tbl>
              <a:tblPr/>
              <a:tblGrid>
                <a:gridCol w="2243160"/>
                <a:gridCol w="4593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ojekt MŠMT Č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U PENÍZE ŠKOLÁ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Číslo projek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Z.1.07/1.4.00/21.28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ázev projektu ško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aše škola, ZŠ Pardubice, Benešovo náměstí 5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líčová aktivita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III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ovace a zkvalitnění výuky prostřednictvím I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1" name="Rectangle 116"/>
          <p:cNvSpPr/>
          <p:nvPr/>
        </p:nvSpPr>
        <p:spPr>
          <a:xfrm>
            <a:off x="395280" y="3115440"/>
            <a:ext cx="849780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Šablona č. III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Identifikátor: VY_32_INOVACE_15_SADA5_KBS_9ROC_OPAKOVANI_DIODA_ELEKTROMAGNETICKE_ZARE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zdělávací oblast: Člověk a přír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zdělávací obor: Fyzi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obrázek 1" descr=""/>
          <p:cNvPicPr/>
          <p:nvPr/>
        </p:nvPicPr>
        <p:blipFill>
          <a:blip r:embed="rId1"/>
          <a:stretch/>
        </p:blipFill>
        <p:spPr>
          <a:xfrm>
            <a:off x="3924360" y="189000"/>
            <a:ext cx="733320" cy="981000"/>
          </a:xfrm>
          <a:prstGeom prst="rect">
            <a:avLst/>
          </a:prstGeom>
          <a:ln w="0">
            <a:noFill/>
          </a:ln>
        </p:spPr>
      </p:pic>
      <p:pic>
        <p:nvPicPr>
          <p:cNvPr id="403" name="Obrázek 10" descr=""/>
          <p:cNvPicPr/>
          <p:nvPr/>
        </p:nvPicPr>
        <p:blipFill>
          <a:blip r:embed="rId2"/>
          <a:stretch/>
        </p:blipFill>
        <p:spPr>
          <a:xfrm>
            <a:off x="1619280" y="4653000"/>
            <a:ext cx="615960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ELEKTROMAGNETICKÉ ZÁŘENÍ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Které záření bylo využito pro vytvoření obr. 4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Obr. 4: 24.4.2012 online  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</a:t>
            </a: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http://cs.wikipedia.org/wiki/Soubor:PA_lebka.jpg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3" name="Zástupný symbol pro zápatí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9" descr="Soubor:PA lebka.jpg"/>
          <p:cNvPicPr/>
          <p:nvPr/>
        </p:nvPicPr>
        <p:blipFill>
          <a:blip r:embed="rId1"/>
          <a:stretch/>
        </p:blipFill>
        <p:spPr>
          <a:xfrm>
            <a:off x="3000240" y="2000160"/>
            <a:ext cx="29876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ELEKTROMAGNETICKÉ ZÁŘENÍ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Z nabídky zaškrtni druhy elektromagnetických záření před kterými je nutné se chránit. Svou volbu zdůvodni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rádiové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ultrafialov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rentgenové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infračervené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mikrovln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gama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světl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Zástupný symbol pro zápatí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ELEKTROMAGNETICKÉ ZÁŘENÍ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oznej zdroj záření na obr. 5. Popiš, jak funguje. Znáš nějaké další zdroje záření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Obr. 5: 24.4.2012 online  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http://en.wikipedia.org/wiki/File:Coolidge_xray_tube.jpg&gt;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Zástupný symbol pro zápatí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5" descr="File:Coolidge xray tube.jpg"/>
          <p:cNvPicPr/>
          <p:nvPr/>
        </p:nvPicPr>
        <p:blipFill>
          <a:blip r:embed="rId1"/>
          <a:stretch/>
        </p:blipFill>
        <p:spPr>
          <a:xfrm>
            <a:off x="500040" y="2643120"/>
            <a:ext cx="76201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ZDROJE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KOLÁŘOVÁ, Růžena; BOHUNĚK, Jiří; ŠTOLL, Ivan; SVOBODA, Miroslav; WOLF, Marek. </a:t>
            </a:r>
            <a:r>
              <a:rPr b="0" i="1" lang="cs-CZ" sz="2000" spc="-1" strike="noStrike">
                <a:solidFill>
                  <a:srgbClr val="000000"/>
                </a:solidFill>
                <a:latin typeface="Century Schoolbook"/>
              </a:rPr>
              <a:t>Fyzika pro 9. ročník základní školy. </a:t>
            </a: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1. vyd. Praha: Prometheus, 2000. ISBN 80-7196-193-0. 232 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Zástupný symbol pro zápatí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Zástupný symbol pro zápatí 2"/>
          <p:cNvSpPr/>
          <p:nvPr/>
        </p:nvSpPr>
        <p:spPr>
          <a:xfrm>
            <a:off x="468360" y="6237360"/>
            <a:ext cx="8207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Název: Opakování – dioda, elektromagnetické záření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Datum: 25.4.2012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Autor: Mgr. Darina Kubášková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tručná anotace: Opakování probraného učiva na dané téma.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Metodické zhodnocení: Určeno pro žáky 9. ročníku. Práce na celou vyučovací hodinu. Žáci plní jednotlivé úkoly na interaktivní tabuli. Ostatní žáci vyplňují do sešitu. Kontrola odpovědí u každého úkolu spolu s vysvětlením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OPAKOVÁNÍ – DIODA, ELEKTROMAGNETICKÉ ZÁŘENÍ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Zástupný symbol pro zápatí 3"/>
          <p:cNvSpPr/>
          <p:nvPr/>
        </p:nvSpPr>
        <p:spPr>
          <a:xfrm rot="5400000">
            <a:off x="707652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POLOVODIČOVÁ DIOD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 zakresleném schématu polovodičové diody vyznač anodu a katodu a oblast P a 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Obr. 1: KOLÁŘOVÁ, Růžena; BOHUNĚK, Jiří; ŠTOLL, Ivan; SVOBODA, Miroslav; WOLF, Marek. </a:t>
            </a:r>
            <a:r>
              <a:rPr b="0" i="1" lang="cs-CZ" sz="1000" spc="-1" strike="noStrike">
                <a:solidFill>
                  <a:srgbClr val="000000"/>
                </a:solidFill>
                <a:latin typeface="Century Schoolbook"/>
              </a:rPr>
              <a:t>Fyzika pro 9. ročník základní školy. </a:t>
            </a: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1. vyd. Praha: Prometheus, 2000. ISBN 80-7196-193-0. Kapitola 4.3, obr. 4.8a), s. 66.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Zástupný symbol pro zápatí 3"/>
          <p:cNvSpPr/>
          <p:nvPr/>
        </p:nvSpPr>
        <p:spPr>
          <a:xfrm rot="5400000">
            <a:off x="6940440" y="234648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1571760" y="3000240"/>
            <a:ext cx="474156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POLOVODIČOVÁ DIOD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Nakresli schéma zapojení diody v </a:t>
            </a: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propustném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směru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Diodou </a:t>
            </a: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prochází/neprochází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elektrický prou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Zástupný symbol pro zápatí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POLOVODIČOVÁ DIOD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Nakresli schéma zapojení diody v </a:t>
            </a: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závěrném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směru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Diodou </a:t>
            </a: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prochází/neprochází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elektrický prou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8" name="Zástupný symbol pro zápatí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SOUČÁSTKY S PŘECHODEM P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oznej součástku s PN přechodem podle schematické značky a napiš, k čemu ji lze využí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Obr. 2: KOLÁŘOVÁ, Růžena; BOHUNĚK, Jiří; ŠTOLL, Ivan; SVOBODA, Miroslav; WOLF, Marek. </a:t>
            </a:r>
            <a:r>
              <a:rPr b="0" i="1" lang="cs-CZ" sz="1000" spc="-1" strike="noStrike">
                <a:solidFill>
                  <a:srgbClr val="000000"/>
                </a:solidFill>
                <a:latin typeface="Century Schoolbook"/>
              </a:rPr>
              <a:t>Fyzika pro 9. ročník základní školy. </a:t>
            </a: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1. vyd. Praha: Prometheus, 2000. ISBN 80-7196-193-0. Kapitola 4.5, obr. 4.14a), s. 74, obr. 4.15a), s. 75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Zástupný symbol pro zápatí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1214280" y="2500200"/>
            <a:ext cx="58579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ELEKTROMAGNETICKÉ ZÁŘENÍ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4" name="Zástupný symbol pro zápatí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S pomocí učebnice doplň tabulku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357120" y="2143080"/>
          <a:ext cx="7715160" cy="4521240"/>
        </p:xfrm>
        <a:graphic>
          <a:graphicData uri="http://schemas.openxmlformats.org/drawingml/2006/table">
            <a:tbl>
              <a:tblPr/>
              <a:tblGrid>
                <a:gridCol w="2078280"/>
                <a:gridCol w="1963440"/>
                <a:gridCol w="3673440"/>
              </a:tblGrid>
              <a:tr h="35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Vlnová dél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Vl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oužití, výsky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ádiové vl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 000 m – 1 000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00 m – 150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ozhl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 m – 15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 m – 1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elev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ikrovl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ikrovlnné troub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3 mm – 750 n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álkové ovladače, noční vidění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epelné zá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5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50 nm – 400 n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vidě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5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ultrafialové zá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 nm – 1 p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ékařská a průmyslová diagnosti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&lt;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300 p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ELEKTROMAGNETICKÉ ZÁŘENÍ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řečti písmeno: </a:t>
            </a:r>
            <a:r>
              <a:rPr b="1" lang="el-GR" sz="2400" spc="-1" strike="noStrike">
                <a:solidFill>
                  <a:srgbClr val="000000"/>
                </a:solidFill>
                <a:latin typeface="Century Gothic"/>
              </a:rPr>
              <a:t>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Kterou fyzikální veličinu takto označujem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yznač ji v obrázku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Obr. 3: KOLÁŘOVÁ, Růžena; BOHUNĚK, Jiří; ŠTOLL, Ivan; SVOBODA, Miroslav; WOLF, Marek. </a:t>
            </a:r>
            <a:r>
              <a:rPr b="0" i="1" lang="cs-CZ" sz="1000" spc="-1" strike="noStrike">
                <a:solidFill>
                  <a:srgbClr val="000000"/>
                </a:solidFill>
                <a:latin typeface="Century Schoolbook"/>
              </a:rPr>
              <a:t>Fyzika pro 9. ročník základní školy. </a:t>
            </a: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1. vyd. Praha: Prometheus, 2000. ISBN 80-7196-193-0. Kapitola 6.1, obr. 6.2b), s. 89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Zástupný symbol pro zápatí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7" descr=""/>
          <p:cNvPicPr/>
          <p:nvPr/>
        </p:nvPicPr>
        <p:blipFill>
          <a:blip r:embed="rId1"/>
          <a:stretch/>
        </p:blipFill>
        <p:spPr>
          <a:xfrm>
            <a:off x="1523880" y="3276720"/>
            <a:ext cx="5257800" cy="24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09:55:49Z</dcterms:created>
  <dc:creator>Jičínská Ema</dc:creator>
  <dc:description/>
  <dc:language>en-US</dc:language>
  <cp:lastModifiedBy>cevorovaa</cp:lastModifiedBy>
  <dcterms:modified xsi:type="dcterms:W3CDTF">2014-09-03T09:37:21Z</dcterms:modified>
  <cp:revision>66</cp:revision>
  <dc:subject/>
  <dc:title>Snímek 1</dc:title>
</cp:coreProperties>
</file>