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89D2-D1BC-402C-BD1E-D731F876F5E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EU Peníze školám</a:t>
            </a: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336699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3BF-471D-49CA-A9DF-1B24F1B9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766-0813-4C5A-AF5A-A07A2C50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402-8BAC-4ACC-BB71-90411F65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002-24A0-4549-A96C-C6F7440C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E9D7-DFF5-4335-8793-B992238C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7C26-F7DB-4203-BA31-1C6DBA89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158C-AB8B-42C2-BB21-7A189DB4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40AC-C350-41E6-9F78-74233FAB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53F7-77C4-4C6C-80FE-79EB79BD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3320-C3F5-4B86-A2FF-19F4808B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69FB-1084-49A3-9488-A0645460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264-67BF-4196-B0CB-9EFAC6AF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D76F-8FA5-42A5-BA98-F19302DD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0A7B-6DB3-4FDF-BBF6-88E100BF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7A6C-A863-4DBC-A8C5-AD967779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27BA-726D-4116-B3A0-7E40C00C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2979-4300-448E-9853-A36F409B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13B-8582-4013-A21C-BF7B41E7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F40-E013-4D57-AB7A-EFAAC933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89F-CD14-41ED-AAF4-8BB74358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589-DBE7-466D-B54D-7BB7E4F9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BF4-C1A9-402A-A12C-20552CD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307-8622-4CDA-9543-8A960BA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6E1-583B-435F-A41D-4BB053C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9F6E-5EAA-42E2-AE6D-695BE078C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4CAE-CD5A-4495-A495-3AB500EAB972}" type="slidenum"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Tavn&#225;_pojistka" TargetMode="External"/><Relationship Id="rId2" Type="http://schemas.openxmlformats.org/officeDocument/2006/relationships/hyperlink" Target="http://cs.wikipedia.org/wiki/Zvonek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zápatí 3"/>
          <p:cNvSpPr/>
          <p:nvPr/>
        </p:nvSpPr>
        <p:spPr>
          <a:xfrm>
            <a:off x="380880" y="6172200"/>
            <a:ext cx="820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700280"/>
          <a:ext cx="6837120" cy="137160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16"/>
          <p:cNvSpPr/>
          <p:nvPr/>
        </p:nvSpPr>
        <p:spPr>
          <a:xfrm>
            <a:off x="395280" y="31291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3_SADA5_VYC_9ROC_ELEKTROMAGNET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: Fyzik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6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0" descr=""/>
          <p:cNvPicPr/>
          <p:nvPr/>
        </p:nvPicPr>
        <p:blipFill>
          <a:blip r:embed="rId2"/>
          <a:stretch/>
        </p:blipFill>
        <p:spPr>
          <a:xfrm>
            <a:off x="1371600" y="4419720"/>
            <a:ext cx="615780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Pojistk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28972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276360" cy="2709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1447920" y="5867280"/>
            <a:ext cx="35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Times New Roman"/>
              </a:rPr>
              <a:t>Průmyslová pojistka 200 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784760" y="483876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Times New Roman"/>
              </a:rPr>
              <a:t>Klasické keramické pojistky  </a:t>
            </a:r>
            <a:r>
              <a:rPr b="0" lang="cs-CZ" sz="24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336699"/>
                </a:solidFill>
                <a:latin typeface="Times New Roman"/>
              </a:rPr>
              <a:t>(10 A a 6 A)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Obdélník 8"/>
          <p:cNvSpPr/>
          <p:nvPr/>
        </p:nvSpPr>
        <p:spPr>
          <a:xfrm>
            <a:off x="4648320" y="5486400"/>
            <a:ext cx="99036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 č. 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Obdélník 8"/>
          <p:cNvSpPr/>
          <p:nvPr/>
        </p:nvSpPr>
        <p:spPr>
          <a:xfrm>
            <a:off x="7086600" y="1447920"/>
            <a:ext cx="99072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 č. 3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ff"/>
                </a:solidFill>
                <a:latin typeface="Times New Roman"/>
              </a:rPr>
              <a:t>Otázky a úkol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6699"/>
                </a:solidFill>
                <a:latin typeface="Arial"/>
              </a:rPr>
              <a:t>Vysvětli, proč musí být jádro elektromagnetu z magneticky měkké oceli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6699"/>
                </a:solidFill>
                <a:latin typeface="Arial"/>
              </a:rPr>
              <a:t>Doplň větu: Čím méně má cívka závitů, tím ………. je magnetické pole elektromagnetu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6699"/>
                </a:solidFill>
                <a:latin typeface="Arial"/>
              </a:rPr>
              <a:t>Vysvětli princip činnosti zvonku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6699"/>
                </a:solidFill>
                <a:latin typeface="Arial"/>
              </a:rPr>
              <a:t>Jaký je zásadní rozdíl mezi pojistkami a jističem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336699"/>
                </a:solidFill>
                <a:latin typeface="Arial"/>
              </a:rPr>
              <a:t>Na obrázku je nakreslen elektromagnet s přerušeným el.obvodem a kompas (A). Kousek měkké oceli (B) je v klidu. Uvažuj, jak se změní situace, když uzavřeme obvod elektromagnetu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5" name="Picture 4" descr="ukol1"/>
          <p:cNvPicPr/>
          <p:nvPr/>
        </p:nvPicPr>
        <p:blipFill>
          <a:blip r:embed="rId1"/>
          <a:stretch/>
        </p:blipFill>
        <p:spPr>
          <a:xfrm>
            <a:off x="2666880" y="2666880"/>
            <a:ext cx="45720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Zdroj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r. č. 2 + 3: Tavná pojistka. </a:t>
            </a:r>
            <a:r>
              <a:rPr b="1" lang="cs-CZ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cs.wikipedia.org/wiki/Tavn%C3%A1_pojistk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(accessed Oct 29, 2011)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5712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r. č. 1: Zvonek. Wikipedie. </a:t>
            </a:r>
            <a:r>
              <a:rPr b="1" lang="cs-CZ" sz="1600" spc="-1" strike="noStrike" u="sng">
                <a:solidFill>
                  <a:srgbClr val="ff99ff"/>
                </a:solidFill>
                <a:uFillTx/>
                <a:latin typeface="Arial"/>
                <a:hlinkClick r:id="rId2"/>
              </a:rPr>
              <a:t>http://cs.wikipedia.org/wiki/Zvonek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(accessed Aug 13, 2011).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Elektromagnet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  7.11. 2011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Kristýna Soud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elektromagnet a jeho užití s otázkami k procvičení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9. ročníku k prezentaci nové látky včetně procvičování, kdy žáci po výkladu a pochopení látky odpovídají na zadané otázky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10360" y="6095880"/>
            <a:ext cx="71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Kristýna Soudkov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Elektromagnet a jeho užití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638320" y="4572000"/>
            <a:ext cx="2514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9.ročník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Elektromagne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elektromagnet - cívka s jádrem z magneticky měkké oceli, používaná k vytváření dočasného magnetického pol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mg. pole elektromagnetu je tím silnější, čím má cívka více závitů (N</a:t>
            </a:r>
            <a:r>
              <a:rPr b="1" lang="cs-CZ" sz="3600" spc="-1" strike="noStrike">
                <a:solidFill>
                  <a:srgbClr val="336699"/>
                </a:solidFill>
                <a:latin typeface="Arial"/>
              </a:rPr>
              <a:t>)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a čím větší proud (I) cívkou prochází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Použití elektromagnetu - zvonek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vznik magnetického pole kolem elektromagnetu a přitažení kotvy k elektromagnetu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6699"/>
                </a:solidFill>
                <a:latin typeface="Arial"/>
              </a:rPr>
              <a:t>(Tím se zároveň přeruší obvod, elektromagnet ztratí své magnetické účinky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kotva se vrátí do původní polohy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6699"/>
                </a:solidFill>
                <a:latin typeface="Arial"/>
              </a:rPr>
              <a:t>(Znovu se uzavře obvod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prodloužená kmitající kotva naráží do kovového zvonku (rezonátor) a tyto nárazy způsobují zvukový efekt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Elektrický zvonek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934320" cy="5127480"/>
          </a:xfrm>
          <a:prstGeom prst="rect">
            <a:avLst/>
          </a:prstGeom>
          <a:ln w="0">
            <a:noFill/>
          </a:ln>
        </p:spPr>
      </p:pic>
      <p:sp>
        <p:nvSpPr>
          <p:cNvPr id="122" name="Obdélník 4"/>
          <p:cNvSpPr/>
          <p:nvPr/>
        </p:nvSpPr>
        <p:spPr>
          <a:xfrm>
            <a:off x="7543800" y="5867280"/>
            <a:ext cx="10666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99"/>
                </a:solidFill>
                <a:latin typeface="Times New Roman"/>
              </a:rPr>
              <a:t>Obr. č.1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Elektrický jistič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jistič je el.přístroj, který při nadměrném elektrickém proudu (většinou při přetížení nebo zkratu) automaticky rozpojí el.obvod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tím chrání obsluhu před možným úrazem elektrickým proudem a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elektrické zařízení před jeho poškozením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Elektrický jistič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pokud dojde ke zkratu, vzroste prudce proud v cívce elektromagnetu v jistič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mg.pole elektromagnetu zesílí natolik, že přitáhne kotvu a západka se uvolní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díky pružince se oddálí kontakty a proud v obvodu se přeruší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zápatí 4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6699"/>
                </a:solidFill>
                <a:latin typeface="Times New Roman"/>
              </a:rPr>
              <a:t>Autorem materiálu a všech jeho částí, není-li uvedeno jinak, je Mgr. Kristýna Soudková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Times New Roman"/>
              </a:rPr>
              <a:t>Pojistk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v obvodu mají stejnou funkci jako jistič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336699"/>
                </a:solidFill>
                <a:uFillTx/>
                <a:latin typeface="Arial"/>
              </a:rPr>
              <a:t>nevýhody pojistek: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 krátký drátek se v okamžiku zkratu nebo trvalém přetížení přetaví a přeruší obvod (obvod nelze znovu zapnout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336699"/>
                </a:solidFill>
                <a:uFillTx/>
                <a:latin typeface="Arial"/>
              </a:rPr>
              <a:t>výhody jističe: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 při přerušení proudu a následném odstranění závady je možné jistič tlačítkem znovu zapnout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vorovaa</cp:lastModifiedBy>
  <dcterms:modified xsi:type="dcterms:W3CDTF">2014-09-03T09:32:4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