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23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. 5.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AA10-3F15-41A2-984D-6B82E6E4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B5C77-A784-41C1-956F-B7B9105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8CDF9-B58E-4CAB-9D59-D76E82C1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8AB31-C3D9-436E-9F29-E0ABC5F5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667E8-0ADB-4E91-88D7-91CBCEC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4E981-373A-498E-B4E3-37FDCBC9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EB822-33F4-4F5B-B60C-0695998F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3E387-6018-4BDC-8AC3-56AEDFD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CC08C-9C70-4781-B7DF-D95412DA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2A51D-706B-4691-8DDA-126B38D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5A186-5ECB-4CE9-A996-2E2770BC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C343-7B34-45FF-9F5A-06F4BF86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03EC4-3688-459B-8A7F-9DFE78C9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59976-28E7-42CC-83E1-EF33F8C9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08656-24E1-4C4C-A9E0-9F39AB4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8614C-3B32-4D71-ACE5-0903BBF6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93E7F-0196-4C0F-88EE-5BE80190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28DCF-BD17-45F6-A55B-43800BD0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BE056-943B-448E-B0DE-394E3BB0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DB635-D0E3-4A02-8EA2-1ACFD3E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9A1C1-BF20-4796-B14E-297A090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CAD74-87B3-421A-90DC-B2080506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10511-4465-4DB7-991E-D21A1E1A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9B962A-D98E-4548-9047-FA7F65CB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047F-4AAB-4CF2-BA27-ED71C15B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8F28-6120-4F09-B516-8B46BB88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48CC-2123-4016-9BC5-44CA798A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BD99-B190-44D1-81EF-4B474BEE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423B-002A-4BCE-B313-9485AC3A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51AF-13CF-4A21-82E9-159A71CB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479C3-B06F-40FB-AD24-BAB3E4F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D2F2-218C-4595-8EF3-0A5BD3A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342C-4D4C-4107-8D0C-F6D44ED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9CF4-872B-40C8-BA40-D02F2805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AF78-DBDF-4C03-B01F-C1619167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FCA2-94B3-4D26-99C3-126160B7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7EC9C3-25F8-44AC-B03B-B0814AB9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C9F88B-4C97-42CA-9FAC-6C3E1CF8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26B84-4E87-47BB-B7A0-E3E73564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5A002-E9D8-40FD-9F67-0CFFCD4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E92A8D-B397-44D0-AD26-645E7E55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E0811-9F47-4F11-A11F-19013BC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D90C4F-AAE4-4081-AAC1-64709341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1D8150-B4B1-459E-9AE5-AAB3CA4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3CD7A-6784-4484-8F20-66D68DE1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3791A-324C-42BA-8845-5182D887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9D930F-5275-4653-BD53-DB412047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CD95A-BDAA-46EE-B0B2-9E0D2D9B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E67AB-05FB-49E8-9B3C-973DE69D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5A2ED-E672-4CFA-8017-543FE4B8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6E70-35CF-4CAE-A275-2A9B42A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77EF7-473B-437D-B641-8FCE7809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94560-8FF4-41CC-B318-2C935746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2B18-4E67-4388-A060-74A5A5C3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50BF-3491-4AA7-A910-5BBBA12B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81DE-3096-44E0-B209-4E75218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573E4-47CA-46A6-A923-A3540BF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4964-B02E-411F-9129-B548DACD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9552-22F7-4D7A-AB35-767A1CFF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A7CA-C328-47A2-AA74-53CE6E7A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E03A9-8465-4ADD-985E-6B6434B2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49211-1ADB-412E-938D-BF123F8A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0ED95-AE9E-4E07-8595-B509DF4C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01E2-D772-457D-B323-16D3DF1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6480-176C-44C4-9771-D51A154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35BA-1B8A-4E4A-A41E-6E00F0A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01278-FE72-4D63-B5A4-D21DEFAE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DCDAD-88FF-4924-BA2F-AD8D1BB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114D9-F067-4698-81E1-170E106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B1541-6635-4DC5-84B3-D7EA6946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CBF5-A631-4BCA-AAEC-91126A48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133C2-E82C-4BA2-B064-1414A179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A0FC-40D8-40A1-96A7-5E348D04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0839-488E-4F69-A7F7-528C1FE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0D0D-536D-4288-89B9-4B7DD965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C628-34FA-4D92-A5A6-412A0B0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F56C1-E9C4-4056-859B-71049CB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85579-B5A8-4879-96CF-4E3A09E7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6677-0D4E-4F54-90D1-27716D7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4B2FF-444E-4541-AD13-0B8AF2C4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3007-1362-4489-82F7-AF34A60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05A9B-7705-46AE-AA77-0238A1FB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74608-6996-4611-A057-99D83A4E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BE7C6-9123-46EA-B2F2-2D93037A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3700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076B-CC17-4A7F-AF25-C6C95A744C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A833-9972-4092-B93B-BABDA9E445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60DA-D129-42BE-9CAB-556BD3FE1B0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309-A4A1-42FA-B1F6-5A3C58630A3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2526-78F9-454D-BEF7-9AEE04DA0B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BE67-881A-4E43-A699-99B63FD7652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035A-7C92-4A53-8665-DBA134621C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1280" y="1700280"/>
          <a:ext cx="6837120" cy="137160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Rectangle 116"/>
          <p:cNvSpPr/>
          <p:nvPr/>
        </p:nvSpPr>
        <p:spPr>
          <a:xfrm>
            <a:off x="395280" y="31147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16_SADA5_KBS_8ROC_VYKON_ELEKTRICKEHO_PROU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10" descr=""/>
          <p:cNvPicPr/>
          <p:nvPr/>
        </p:nvPicPr>
        <p:blipFill>
          <a:blip r:embed="rId2"/>
          <a:stretch/>
        </p:blipFill>
        <p:spPr>
          <a:xfrm>
            <a:off x="1619280" y="4581360"/>
            <a:ext cx="61596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LAD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a rezistoru je vyznačen el. odpor 1,0 k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 Příkon rezistoru je 10 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) Jaký proud prochází rezistorem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) Jaké napětí naměříme mezi svorkami rezistoru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 = 1 00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10 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13"/>
              <p:cNvSpPr txBox="1"/>
              <p:nvPr/>
            </p:nvSpPr>
            <p:spPr>
              <a:xfrm>
                <a:off x="2928960" y="3286080"/>
                <a:ext cx="1986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4"/>
              <p:cNvSpPr txBox="1"/>
              <p:nvPr/>
            </p:nvSpPr>
            <p:spPr>
              <a:xfrm>
                <a:off x="4929120" y="3143160"/>
                <a:ext cx="12049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5"/>
              <p:cNvSpPr txBox="1"/>
              <p:nvPr/>
            </p:nvSpPr>
            <p:spPr>
              <a:xfrm>
                <a:off x="5072040" y="4071960"/>
                <a:ext cx="12952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6357960" y="4071960"/>
                <a:ext cx="14158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7786800" y="4429080"/>
                <a:ext cx="10252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3059280" y="5443560"/>
                <a:ext cx="1866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4929120" y="5286240"/>
                <a:ext cx="1416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6429240" y="5286240"/>
                <a:ext cx="843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0,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7286760" y="5572080"/>
                <a:ext cx="874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ROCVIČOV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rči příkon žárovky, je-li připojena ke zdroji napětí 220 V a prochází jí proud 0,46 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220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 = 0,46 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U .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220 . 0,46 =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100 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ROCVIČOV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28400" y="1571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říkon reostatu je 0,5 W a je připojen ke zdroji napětí 50 V. Urči odpor reostat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0,5 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50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6"/>
              <p:cNvSpPr txBox="1"/>
              <p:nvPr/>
            </p:nvSpPr>
            <p:spPr>
              <a:xfrm>
                <a:off x="3714840" y="2571840"/>
                <a:ext cx="16113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7"/>
              <p:cNvSpPr txBox="1"/>
              <p:nvPr/>
            </p:nvSpPr>
            <p:spPr>
              <a:xfrm>
                <a:off x="5429160" y="2571840"/>
                <a:ext cx="11318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8"/>
              <p:cNvSpPr txBox="1"/>
              <p:nvPr/>
            </p:nvSpPr>
            <p:spPr>
              <a:xfrm>
                <a:off x="5429160" y="3643200"/>
                <a:ext cx="12160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5429160" y="4857840"/>
                <a:ext cx="2516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ROCVIČOV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ájkou o příkonu 200 W prochází proud 0,9 A. Kolik je napětí zdroje, ke kterému je pájka připojen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 = 0,9 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200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16"/>
              <p:cNvSpPr txBox="1"/>
              <p:nvPr/>
            </p:nvSpPr>
            <p:spPr>
              <a:xfrm>
                <a:off x="3645000" y="2782800"/>
                <a:ext cx="1752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7"/>
              <p:cNvSpPr txBox="1"/>
              <p:nvPr/>
            </p:nvSpPr>
            <p:spPr>
              <a:xfrm>
                <a:off x="5505480" y="2571840"/>
                <a:ext cx="11415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8"/>
              <p:cNvSpPr txBox="1"/>
              <p:nvPr/>
            </p:nvSpPr>
            <p:spPr>
              <a:xfrm>
                <a:off x="5429160" y="3500280"/>
                <a:ext cx="13525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0,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19"/>
              <p:cNvSpPr txBox="1"/>
              <p:nvPr/>
            </p:nvSpPr>
            <p:spPr>
              <a:xfrm>
                <a:off x="5429160" y="4643280"/>
                <a:ext cx="1533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ROCVIČOV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Žárovka má při příkonu 60 W  odpor 15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 Jaký proud prochází žárovkou? K jakému zdroji napětí je připojen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60 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 = 15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3714840" y="2571840"/>
                <a:ext cx="16113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5500800" y="2857680"/>
                <a:ext cx="15541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5643720" y="3500280"/>
                <a:ext cx="1666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5643720" y="4143240"/>
                <a:ext cx="2655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3714840" y="5000760"/>
                <a:ext cx="18572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5643720" y="4857840"/>
                <a:ext cx="11430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5786280" y="5715000"/>
                <a:ext cx="1214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7000920" y="5715000"/>
                <a:ext cx="10857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14"/>
              <p:cNvSpPr txBox="1"/>
              <p:nvPr/>
            </p:nvSpPr>
            <p:spPr>
              <a:xfrm>
                <a:off x="8143920" y="6072120"/>
                <a:ext cx="814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DROJ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BOHUNĚK, Jiří;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Sbírka úloh z fyziky pro žáky základních škol 3. díl. 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1. vyd. Praha: Prometheus, 1994. ISBN 80-85849-04-6. 152 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OLÁŘOVÁ, Růžena; BOHUNĚK, Jiří.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Fyzika pro 8. ročník základní školy. 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1. vyd. Praha: Prometheus, 1999. ISBN 978-80-7196-149-9. Kapitola 2, 228 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2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Výkon elektrického proudu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10.5.2012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Darina Kubáš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Výklad nového učiva na téma výkon el. proudu s řešením příkladů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8. ročníku. Práce na dvě vyučovací hodiny. V první fázi učitel vykládá učivo se zapojením žáků a společně řeší příklady, ve druhé hodině žáci samostatně řeší příklady, poté následuje kontrola správnosti řešení a diskuze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VÝKON ELEKTRICKÉHO PROUD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Zástupný symbol pro zápatí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ÝKON ELEKTRICKÉHO PROUD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Fyzikální velič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ač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dnot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okud vodičem prochází proud 1 A při napětí zdroje 1 V, pak je výkon el. proudu 1 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Zástupný symbol pro zápatí 3"/>
          <p:cNvSpPr/>
          <p:nvPr/>
        </p:nvSpPr>
        <p:spPr>
          <a:xfrm rot="5400000">
            <a:off x="6940440" y="234648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8"/>
              <p:cNvSpPr txBox="1"/>
              <p:nvPr/>
            </p:nvSpPr>
            <p:spPr>
              <a:xfrm>
                <a:off x="2071800" y="2643120"/>
                <a:ext cx="115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3929040" y="2928960"/>
                <a:ext cx="182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10"/>
              <p:cNvSpPr txBox="1"/>
              <p:nvPr/>
            </p:nvSpPr>
            <p:spPr>
              <a:xfrm>
                <a:off x="3000240" y="3714840"/>
                <a:ext cx="1792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3000240" y="4714920"/>
            <a:ext cx="1629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každém spotřebiči dochází ke ztrátám energie (žárovka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ozlišujeme výkon a přík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entury Schoolbook"/>
              </a:rPr>
              <a:t>0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= elektrická práce, která byla ve skutečnosti vykonána za 1 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užitečná práce vykonaná za 1 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Hodnota uvedena na štítku spotřebič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ač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dnot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3" descr=""/>
          <p:cNvPicPr/>
          <p:nvPr/>
        </p:nvPicPr>
        <p:blipFill>
          <a:blip r:embed="rId1"/>
          <a:stretch/>
        </p:blipFill>
        <p:spPr>
          <a:xfrm>
            <a:off x="2857680" y="2643120"/>
            <a:ext cx="18288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Object 7"/>
              <p:cNvSpPr txBox="1"/>
              <p:nvPr/>
            </p:nvSpPr>
            <p:spPr>
              <a:xfrm>
                <a:off x="428760" y="3571920"/>
                <a:ext cx="16192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8"/>
              <p:cNvSpPr txBox="1"/>
              <p:nvPr/>
            </p:nvSpPr>
            <p:spPr>
              <a:xfrm>
                <a:off x="2000160" y="3786120"/>
                <a:ext cx="19652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9"/>
              <p:cNvSpPr txBox="1"/>
              <p:nvPr/>
            </p:nvSpPr>
            <p:spPr>
              <a:xfrm>
                <a:off x="3929040" y="3571920"/>
                <a:ext cx="1344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0"/>
              <p:cNvSpPr txBox="1"/>
              <p:nvPr/>
            </p:nvSpPr>
            <p:spPr>
              <a:xfrm>
                <a:off x="5286240" y="3500280"/>
                <a:ext cx="11700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7" name="Picture 10" descr=""/>
          <p:cNvPicPr/>
          <p:nvPr/>
        </p:nvPicPr>
        <p:blipFill>
          <a:blip r:embed="rId2"/>
          <a:stretch/>
        </p:blipFill>
        <p:spPr>
          <a:xfrm>
            <a:off x="6429240" y="3429000"/>
            <a:ext cx="1847880" cy="1419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8" name="Object 11"/>
              <p:cNvSpPr txBox="1"/>
              <p:nvPr/>
            </p:nvSpPr>
            <p:spPr>
              <a:xfrm>
                <a:off x="285840" y="5143680"/>
                <a:ext cx="2031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2"/>
              <p:cNvSpPr txBox="1"/>
              <p:nvPr/>
            </p:nvSpPr>
            <p:spPr>
              <a:xfrm>
                <a:off x="2286000" y="5143680"/>
                <a:ext cx="19652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3"/>
              <p:cNvSpPr txBox="1"/>
              <p:nvPr/>
            </p:nvSpPr>
            <p:spPr>
              <a:xfrm>
                <a:off x="4214880" y="5214960"/>
                <a:ext cx="150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4"/>
              <p:cNvSpPr txBox="1"/>
              <p:nvPr/>
            </p:nvSpPr>
            <p:spPr>
              <a:xfrm>
                <a:off x="5715000" y="5143680"/>
                <a:ext cx="1481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7201080" y="5072040"/>
            <a:ext cx="1942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ČINN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ačka: </a:t>
            </a:r>
            <a:r>
              <a:rPr b="1" lang="el-GR" sz="2400" spc="-1" strike="noStrike">
                <a:solidFill>
                  <a:srgbClr val="000000"/>
                </a:solidFill>
                <a:latin typeface="Century Schoolbook"/>
              </a:rPr>
              <a:t>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dnotka: bezrozměrná veličina (%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o spotřebiče žádoucí co největší účinnost (klasické žárovky pouze 8%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93680" indent="-193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8"/>
              <p:cNvSpPr txBox="1"/>
              <p:nvPr/>
            </p:nvSpPr>
            <p:spPr>
              <a:xfrm>
                <a:off x="2000160" y="2214720"/>
                <a:ext cx="11430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ÝPOČET PRÁ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kud známe příkon spotřebiče a dobu , po kterou prochází vodičem proud, pak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dnot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W . s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(wattsekunda) =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1 J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alší jednotka: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1 kW . h = 3 600 000 J = 3,6 MJ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praxi práce = spotřeba el. energ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3214800" y="2643120"/>
                <a:ext cx="2052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ŘÍKLAD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99680" y="1571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Žárovka je připojena ke zdroji napětí 12 V a prochází jí proud 600 mA. Jaký je příkon žárovk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12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 = 600 mA = 0,6 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U .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12 . 0,6 =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7,2 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5:49Z</dcterms:created>
  <dc:creator>Jičínská Ema</dc:creator>
  <dc:description/>
  <dc:language>en-US</dc:language>
  <cp:lastModifiedBy>cevorovaa</cp:lastModifiedBy>
  <dcterms:modified xsi:type="dcterms:W3CDTF">2014-09-03T09:37:42Z</dcterms:modified>
  <cp:revision>81</cp:revision>
  <dc:subject/>
  <dc:title>Snímek 1</dc:title>
</cp:coreProperties>
</file>