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. 5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9449B-E532-49D7-AC2E-248DE07E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18479-5CEA-4898-A140-F4D3409A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AF172-A911-4B60-8460-CC9D219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79D9C-AB4A-444B-A305-454D53F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8372-69F7-4341-BB75-061BE92A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F8228-568A-4FC2-A57A-0BB7474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EE99D-F2AE-4122-8AE0-6B4FB53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3E107-05C6-4571-87E7-36EF1CB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CC368-84AC-4AAD-A7A4-AAC6256F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346C6-DAAD-489E-AD29-8F3BC9BC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3DFC6-A9ED-4256-BBA2-ED6462D5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C0986-4C11-4459-873A-E3D5DE31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4D5A2-DC87-4C97-9B1B-623B1FB1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0123F-E8F3-466A-8CF9-2BDAF978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70584-1F12-4A4E-B28E-4D961874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01C82-6BA0-4E8B-B727-337D1FB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1A35E-DDF2-4FED-B470-4A82B5C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578E9-2EF7-4C48-922E-847DE79A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4DF3B-12E9-4007-9DFB-E71BFF4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133FE4-4EDE-4DDC-84C3-7F522C0D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B9F2F1-9718-4D9F-A6E0-0B80ECA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529B7-DFB5-493C-91CC-DD072A39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C7B68-DB07-418D-8424-756B835E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860C0-E671-4392-AD4F-3F620547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1314-175A-4B95-AC81-8F15A639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3957-0CF9-4E58-9BBF-F751D2F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9915-2511-40E5-9CBC-7EDABFB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1784-E6FB-40F8-A344-9C6A418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95C6-5B07-483D-AC32-AA5F8D4C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1316-253A-49D1-8CAD-74E1A684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6BCD-2E68-4B27-8571-6DEA444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262E-77E2-4888-B96A-484A5F7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BE88-7800-475B-BC82-DFA3A44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6835-CFE8-4149-B746-202C8FDB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356F-6353-4B51-A1EF-C3D2B65F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71FE-F658-4C10-8C65-D4C08064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595AB-9C26-48F7-A3B1-FBF51ADE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01EBD-72A5-42AD-BF7C-0ED80423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4464C-E815-4BC0-B2BE-06417932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3F1B03-16C5-45C8-94F2-36AC2D89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849BEB-359A-4C4A-9ADE-CA5431E7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E5AFD-CE38-40D6-BF2D-83A13DA4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BF7E42-B431-44EF-9D8E-3C4A7EE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0C6A8-8955-4225-857B-E2BB300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7D228-EB58-4EDD-AB17-115D2AC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0E3F4-EFFE-4D4F-928A-0D78DF5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81BF46-AB5A-413E-B423-43330E5C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AF4D1-7E26-4EE7-81D3-A04ADDD3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24728-9C2C-4952-9FE5-118E7B97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0446-4A20-4D43-8D5D-AE9EE96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02A31-57B8-4149-8CDF-1004A262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AA3B-2B99-464B-9FA8-8CAC7BD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1B554-ED20-4FC1-9142-153F0F2C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70DBD-23D1-4D86-A535-1130ECC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11072-7176-48FA-8273-00180737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B0D37-389F-4ED4-B362-F84F766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F866-B579-44E3-BE11-E127A2F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BD4A-22E2-4879-91A1-42CBB31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AB78-7734-431F-98E3-3ACE8167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9363-63A7-45EF-9590-4789F9AA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272F-8EFA-49DC-A587-BF5062FA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A8B5-57CE-4E8F-85C4-197AC14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575C-CFCF-44F5-97E9-F6D0698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E6CC-54E2-4EBC-872F-47A004C1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EF1D5-87DE-4611-BB67-CB798BBB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9B9D2-D275-4AC8-8EA7-3DD62845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FA8C6-505F-4C7D-8017-212B4CB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842B-D73A-41C4-8FD0-2140992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E9E3-C9AB-4C8F-B30C-EBB4D5EE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0F443-CF19-41B7-BE0F-1FD241C9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DF151-0443-4055-BBD4-4D71B9A2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EEF6-A0C3-42AC-AB75-65633F04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04AD4-2EF5-4B1C-B5CC-4BAC8F44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51327-5054-4D76-A469-ABF3096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7C3D-7B73-495E-A7FD-07D8BC1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0D3F-CE2B-4BBB-BA3B-EF35E5C1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DFF1-97FA-4220-B1FB-0F186B90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DE417-FFDE-4DD5-A265-3F28190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21F8-9311-48DC-9CA5-E5419DF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46EA6-7432-4268-9ABA-5B85726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0132F-423E-45DF-A4C1-C17DEEB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26FB-F799-4D4C-A471-4A040503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67499-5D83-44DA-B4D8-D3774F71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00746-967D-4838-B6C8-B05CFD10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3700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8B61-AF45-45EB-9A30-776E07B7FAB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BAAC-CDE0-44B4-AC8E-BC1730A73CE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FB9-672C-48B4-9526-680910B2F35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1E8-D93A-4579-86EA-B14622073B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030-EE3A-4DF5-B111-09AA8003E3A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0D02-8F73-46B1-A6C4-BEF4E27EEF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70A0-90A3-492C-8E37-A341D514C86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1280" y="1700280"/>
          <a:ext cx="6837120" cy="137160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116"/>
          <p:cNvSpPr/>
          <p:nvPr/>
        </p:nvSpPr>
        <p:spPr>
          <a:xfrm>
            <a:off x="395280" y="31147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14_SADA5_KBS_9ROC_OPAKOVANI_VEDENI_PROU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10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61596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EDENÍ EL. PROUDU V POLOVODIČÍ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 se nazývá polovodič na obr. 2? Čím je způsobeno vedení elektrického proudu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 2: 17.4.2012 online  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http://www.cez.cz/edee/content/microsites/solarni/obr/polo4.gif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http://www.cez.cz/edee/content/microsites/solarni/obr/polo4.gif"/>
          <p:cNvPicPr/>
          <p:nvPr/>
        </p:nvPicPr>
        <p:blipFill>
          <a:blip r:embed="rId1"/>
          <a:stretch/>
        </p:blipFill>
        <p:spPr>
          <a:xfrm>
            <a:off x="2143080" y="2500200"/>
            <a:ext cx="37861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EDENÍ EL. PROUDU V POLOVODIČÍ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 se nazývá polovodič na obr. 3? Čím je způsobeno vedení elektrického proudu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 3: 17.4.2012 online  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 http://www.cez.cz/edee/content/microsites/elektrina/f/f2-5.jpg 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5" descr="http://www.cez.cz/edee/content/microsites/elektrina/f/f2-5.jpg"/>
          <p:cNvPicPr/>
          <p:nvPr/>
        </p:nvPicPr>
        <p:blipFill>
          <a:blip r:embed="rId1"/>
          <a:stretch/>
        </p:blipFill>
        <p:spPr>
          <a:xfrm>
            <a:off x="2143080" y="2643120"/>
            <a:ext cx="38577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OLÁŘOVÁ, Růžena; BOHUNĚK, Jiří; ŠTOLL, Ivan; SVOBODA, Miroslav; WOLF, Marek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Fyzika pro 9. ročník základní školy. 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1. vyd. Praha: Prometheus, 2000. ISBN 80-7196-193-0. 232 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2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Opakování – vedení elektrického proudu v kapalinách, plynech, polovodičích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18.4.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Darina Kubáš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Opakování probraného učiva na dané téma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9. ročníku. Práce na celou vyučovací hodinu. Žáci plní jednotlivé úkoly na interaktivní tabuli. Ostatní žáci vyplňují do sešitu. Kontrola odpovědí u každého úkolu spolu s vysvětlením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OPAKOVÁNÍ – VEDENÍ EL. PROUDU V KAPALINÁCH, PLYNECH, POLOVODIČÍ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Zástupný symbol pro zápatí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ELEKTRICKÝ PROU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plň věty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34880" indent="-18540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Elektrický proud je tvořen ……………………………………………………….….. částic s ………………………………………………….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34880" indent="-18540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Elektrický proud je v kovech tvořen …………………………………………………………….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34880" indent="-18540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Elektrický proud je v kapalinách tvořen …………………………………………………………….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34880" indent="-1854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Zástupný symbol pro zápatí 3"/>
          <p:cNvSpPr/>
          <p:nvPr/>
        </p:nvSpPr>
        <p:spPr>
          <a:xfrm rot="5400000">
            <a:off x="6940440" y="234648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EDENÍ EL. PROUDU V KAPALINÁ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obrázku označ kladnou a zápornou elektrod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ázek 4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24890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EDENÍ EL. PROUDU V KAPALINÁ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 se nazývá kladná elektroda a proč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 se nazývá záporná elektroda a proč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EDENÍ EL. PROUDU V KAPALINÁ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 nabídky podtrhni látky, které můžeme nazvat elektrolyty. Svou volbu zdůvodn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roztok kyseliny sírové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sodík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chlorid sodn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hliník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roztok chloridu sodnéh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minerální vo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destilovaná voda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modrá skalice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roztok modré skal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6320" indent="-16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EDENÍ EL. PROUDU V PLYNE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a jakých podmínek se může vzduch stát vodivým? Vysvětli a uveď příkla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áš nějaké další příklady vedení el. proudu v plynech? Kde se tento jev v praxi využív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EDENÍ EL. PROUDU V POLOVODIČÍ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jmenuj polovodičové součástky na obr. 1 a ke každé napiš, jak lze zmenšit její odp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r.1: KOLÁŘOVÁ, Růžena; BOHUNĚK, Jiří; ŠTOLL, Ivan; SVOBODA, Miroslav; WOLF, Marek. </a:t>
            </a:r>
            <a:r>
              <a:rPr b="0" i="1" lang="cs-CZ" sz="1000" spc="-1" strike="noStrike">
                <a:solidFill>
                  <a:srgbClr val="000000"/>
                </a:solidFill>
                <a:latin typeface="Century Schoolbook"/>
              </a:rPr>
              <a:t>Fyzika pro 9. ročník základní školy. 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1. vyd. Praha: Prometheus, 2000. ISBN 80-7196-193-0. Kapitola 4.1, obr. 4.3a), 4.4a) s. 62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brázek 5" descr=""/>
          <p:cNvPicPr/>
          <p:nvPr/>
        </p:nvPicPr>
        <p:blipFill>
          <a:blip r:embed="rId1"/>
          <a:stretch/>
        </p:blipFill>
        <p:spPr>
          <a:xfrm>
            <a:off x="1285920" y="2786040"/>
            <a:ext cx="5786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5:49Z</dcterms:created>
  <dc:creator>Jičínská Ema</dc:creator>
  <dc:description/>
  <dc:language>en-US</dc:language>
  <cp:lastModifiedBy>cevorovaa</cp:lastModifiedBy>
  <dcterms:modified xsi:type="dcterms:W3CDTF">2014-09-03T09:37:04Z</dcterms:modified>
  <cp:revision>70</cp:revision>
  <dc:subject/>
  <dc:title>Snímek 1</dc:title>
</cp:coreProperties>
</file>